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D60E-411D-40FA-8685-09F199E4F9D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DB20-B050-4B44-B403-2EDB967AE264}"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6C7B-A9B0-4690-926C-35095A6749C4}"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D1CC-BD8F-409C-A1C1-3E99A7D0198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1A43-181D-47D3-81A1-B526B7035EC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5216-AA9B-489C-B6C1-4E8D444FC2EB}"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7E21-A28B-4EEE-94ED-875C21A7AFE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83412-D224-4150-A802-F3FF1955F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9C05D-9CF4-45D0-9C56-CBE43C2EB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27886-ACF4-4A4D-916B-C638FCFDD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B9846-4468-4D68-8B8A-08EE19399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0C783-0181-4842-86DF-57867B33A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6ACDF-BC51-4AD1-9467-FC584D43F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D1FCB-2AC1-49DA-BC0E-FFC763735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DBA05-030E-4540-A411-431880F7A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8095A-9C1E-4E16-93AB-ABD6B758B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8E877-A665-4B2B-9E1D-5B4C8BAB2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20563-B4AB-4C41-8D74-947F75664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CF8B6-0016-45E1-832C-0CC1558E3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97AF9-0F90-4C21-8FBD-E445F3DFF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DD483-B352-4D3B-97FB-92A7A0692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8D60C-93E1-49B8-A0B9-CA2A43FB1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045EC-82B9-4541-88CE-965E711ED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3E39C-EF00-4782-8CE1-733EB1D23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67B0A9-DBC4-4317-AE7E-47A6A34E2C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9FA441-195F-4EB0-8CE2-C2DBAC2DA2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216355-6E61-4966-9E88-4D2E3D679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DEC4D-0007-4FED-B033-C3AFDF60B7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E9F972-61A7-4C87-AD43-E43B2E558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CD0AF-CBD8-4FF3-9D2A-219E74CB3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038A66-E414-4189-B22F-6951E0A666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03B29-DEBA-435F-8D6C-9BEFF9D9F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6C06D-4665-4FA8-943F-4487218D2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3DDDF-A63B-491B-AEE4-B9343D219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905642-F00D-4AE9-99A3-04205FB90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74DF54-0EF2-4A21-A752-86A228F494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D5BCEA-94B5-4EB5-9576-E48AC7BFAE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54D56B-1D04-46C5-9C01-51375D3BF8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EE2E9-C0FD-4C2F-8CBB-6A24B0FA38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FA959-58F0-4985-9B0A-47E50A036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E625C-1B4F-423D-96C8-29FAFAF79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23ADF5-9578-4317-A881-120D038CA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B893B3-3EBE-44CA-8B54-78820CEAF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91EA7-F306-4C65-A768-D8EC8C3C2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AC2E0-4F0A-401C-AB94-B683CB28B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9C535-6612-4FC6-B8AA-55BB4628A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1DFE3-14BD-4FEC-8B7C-28DEE315F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BC5C36-6F45-4AED-8B56-779FDA564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66AFFD-2B4F-4D6E-8B87-9D17FAD925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82632B-61CF-4BBE-8C53-1D55D2B1D8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8AABA1-7FA8-4F36-A9B6-0C54EC37BE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8932B-0149-4AD9-96D4-1FEDAE9B6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A90B83-66FF-4C62-BF46-5CF9E300C0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B31302-9188-425C-AE9B-0CB2650B7F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CAF0F8-93A3-48AD-A419-3E293BE33F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117531-E4B1-452E-8DEE-0E10D52B4B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150CFB-557C-45E0-B970-4BAF2A76A1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A2ABAC-B158-4DA3-8EC8-19B9732C6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20CC7-45DF-42B0-AB8E-261E91D661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2B5A9-F104-45D8-A722-12C01D9236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B8F6C3-CB8F-4CB1-80D4-E56FF77FC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B0E568-CA1A-4972-A0F1-E2E6ABF06A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22BAF-FB08-4483-B767-CDB8DDFC4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D73A0E-CC28-4A68-BE0D-F92F14EAC2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62F1B7-D2F6-4D54-A50C-01E8434129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F12AD0-F287-483B-92C1-460F4F7FD6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C7DDA8-8F02-4878-A62B-17F6A134D8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91D2DC-34AF-4981-A32C-735B783101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45532-0935-4B31-9703-19D0A380F2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C64DF8-7754-4719-853B-40A4AEA82C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1B13FF-3D77-4907-9D5C-65B0CE6645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A1755-998C-4A77-81A8-B6709EDF88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8CCFA2-B191-4B23-AB94-F3B7EE2B9F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A27F1-B8F8-4ADF-99DB-27844D3B3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819B88-E15A-49B7-81AE-47F92C8E34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D1E689-0382-41BF-9A19-C258D9A204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0C991B-D1C1-4E5C-AC42-7D402C9CEF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0830DA-534B-4093-A00C-EF51DAC8E8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D0B666-F637-4EC2-B6DC-FF2FA1BD2E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942E72-E105-4E7E-918A-EF7C84822C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3F709F-1317-43EE-9AFE-4FD0E52B75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FD26E1-4E63-46ED-A13E-93DA5F5AD3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2225CA-5A03-4415-81CB-EFBD96632D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04D91-915A-4D52-95ED-3B215B390F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8B187-0148-48F0-B47D-C943B00BD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BEA095-F744-4C45-911E-544A2E8CD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2D18AC-9F7C-4FE7-AB56-8B2C34BDE3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19189F-9EFB-465A-A4E6-326BCD5B9E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3F80EE-B3CA-498A-9ED2-32AE9161EC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D2A42E-C39E-474C-88A7-F497E9A632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232AB0-61A8-4206-B9E7-45314A578A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B45DDD-FB9A-4D25-8977-56306601B5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1A9551-61AE-42E1-A4AE-669979F04B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7B72DB-D824-40F2-BADE-6F97C3DA3B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08E68A-58EE-41BD-8F80-F16F4A9B73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114FE-B11D-4DF7-A276-DA857B64B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64F0C7-F191-44F1-AEBD-FFCFA9B4CC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5B958C-A816-4E7B-B453-0FE3FDB760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45A3BE-D738-48BC-96E7-E57B690351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A83718-092F-4E04-A006-42A4B33403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4BBB64-DBE4-4001-BA92-3BED652C95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5CEDBA-2B0B-4192-B662-4A1B2A8AE3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011A23-2611-4A53-99CF-352593F387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90B7-4643-4B07-88CE-FEEE54D655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4492-8B69-42C2-A6A2-7879034EB91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96B1-5E29-4C53-9CA0-76598C2D8A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5A56-5141-472F-8839-B39BA475D1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DB56-70C5-4A05-AB88-06457805B4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2903-D51A-4F11-9D63-F2F45826D0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1357-AF92-4ECF-BF09-274EAED580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4E901-DA82-4662-8AEC-22AB8421FC2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384120" y="1749600"/>
            <a:ext cx="859464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Directing traffic for Dummies</a:t>
            </a:r>
            <a:endParaRPr b="0" lang="en-US" sz="2700" spc="-1" strike="noStrike">
              <a:solidFill>
                <a:srgbClr val="000000"/>
              </a:solidFill>
              <a:latin typeface="Lucida Sans Unicode"/>
            </a:endParaRPr>
          </a:p>
        </p:txBody>
      </p:sp>
      <p:pic>
        <p:nvPicPr>
          <p:cNvPr id="379" name="MS900388386[1].wav" descr=""/>
          <p:cNvPicPr/>
          <p:nvPr/>
        </p:nvPicPr>
        <p:blipFill>
          <a:blip r:embed="rId2"/>
          <a:stretch/>
        </p:blipFill>
        <p:spPr>
          <a:xfrm>
            <a:off x="1752480" y="4495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85" fill="hold"/>
                                        <p:tgtEl>
                                          <p:spTgt spid="3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e sure that you can see and be seen. Wear reflective clothing and/or a reflective vest. Have a good flashlight and a whist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nd where you can see all lanes of traffic but have an escape plan for the unexpect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225360" y="122400"/>
            <a:ext cx="8467920" cy="1304640"/>
          </a:xfrm>
          <a:prstGeom prst="rect">
            <a:avLst/>
          </a:prstGeom>
          <a:ln w="0">
            <a:noFill/>
          </a:ln>
        </p:spPr>
      </p:pic>
      <p:pic>
        <p:nvPicPr>
          <p:cNvPr id="382" name="Picture 3" descr="pc1.jpg"/>
          <p:cNvPicPr/>
          <p:nvPr/>
        </p:nvPicPr>
        <p:blipFill>
          <a:blip r:embed="rId2"/>
          <a:stretch/>
        </p:blipFill>
        <p:spPr>
          <a:xfrm>
            <a:off x="3048120" y="3886200"/>
            <a:ext cx="2514600" cy="199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nd in the center portion of the intersection as you walk out and stop all directions. One long, drawn out  blast of the whistle is the stop command, then 2 short blasts to have them move out. Start moving traffic in the direction that is most congested. Point to the cars and use your opened hand to wave them in the direction you want them to go. Let the other direction see your palm facing them in the stop command. Keep your hands up around their eye level.</a:t>
            </a: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se an open palm towards their eye level as your stop command, and an open hand waving them in the direction you want them to go. For left turners, hold the through direction stopped with one hand and wave the turning vehicles through with the other.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Lucida Sans Unicode"/>
              </a:rPr>
              <a:t>For pedestrians</a:t>
            </a:r>
            <a:r>
              <a:rPr b="0" lang="en-US" sz="2500" spc="-1" strike="noStrike">
                <a:solidFill>
                  <a:srgbClr val="000000"/>
                </a:solidFill>
                <a:latin typeface="Lucida Sans Unicode"/>
              </a:rPr>
              <a:t>, </a:t>
            </a:r>
            <a:r>
              <a:rPr b="1" lang="en-US" sz="2500" spc="-1" strike="noStrike">
                <a:solidFill>
                  <a:srgbClr val="000000"/>
                </a:solidFill>
                <a:latin typeface="Lucida Sans Unicode"/>
              </a:rPr>
              <a:t>hold both arms out to your side with your palms facing them to hold them in place, then use the same technique as for cars to get them moving. In all cases point to the next direction that gets to move then give your command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ve the light side to side so the drivers or pedestrians will see the movement. Hold it so that the beam is not directly in their face so as not to temporarily blind them. You can also use it to point out the direction you want them to go. A red cone on the end of the light is helpful in this case if you have it.</a:t>
            </a: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y calm and realize that you can only move traffic through to the best of your ability, which is never as fast as the public would lik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een, be safe, and have fun with it! If you move around a little it might make some people laugh and will keep you warm on a cold December night.</a:t>
            </a:r>
            <a:endParaRPr b="0" lang="en-US" sz="2700" spc="-1" strike="noStrike">
              <a:solidFill>
                <a:srgbClr val="000000"/>
              </a:solidFill>
              <a:latin typeface="Lucida Sans Unicode"/>
            </a:endParaRPr>
          </a:p>
        </p:txBody>
      </p:sp>
      <p:pic>
        <p:nvPicPr>
          <p:cNvPr id="390" name="Title 2" descr=""/>
          <p:cNvPicPr/>
          <p:nvPr/>
        </p:nvPicPr>
        <p:blipFill>
          <a:blip r:embed="rId1"/>
          <a:stretch/>
        </p:blipFill>
        <p:spPr>
          <a:xfrm>
            <a:off x="195120" y="268200"/>
            <a:ext cx="8498160" cy="1158840"/>
          </a:xfrm>
          <a:prstGeom prst="rect">
            <a:avLst/>
          </a:prstGeom>
          <a:ln w="0">
            <a:noFill/>
          </a:ln>
        </p:spPr>
      </p:pic>
      <p:pic>
        <p:nvPicPr>
          <p:cNvPr id="391" name="MS900388377[1].wav" descr=""/>
          <p:cNvPicPr/>
          <p:nvPr/>
        </p:nvPicPr>
        <p:blipFill>
          <a:blip r:embed="rId2"/>
          <a:stretch/>
        </p:blipFill>
        <p:spPr>
          <a:xfrm>
            <a:off x="838080" y="5334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356"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6:58:47Z</dcterms:created>
  <dc:creator>Kenny</dc:creator>
  <dc:description/>
  <dc:language>en-US</dc:language>
  <cp:lastModifiedBy>Administrator</cp:lastModifiedBy>
  <dcterms:modified xsi:type="dcterms:W3CDTF">2010-12-03T05:15:49Z</dcterms:modified>
  <cp:revision>6</cp:revision>
  <dc:subject/>
  <dc:title>Point Control 101</dc:title>
</cp:coreProperties>
</file>