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1.gif" ContentType="image/gif"/>
  <Override PartName="/ppt/media/image6.png" ContentType="image/png"/>
  <Override PartName="/ppt/media/image12.jpeg" ContentType="image/jpeg"/>
  <Override PartName="/ppt/media/image7.png" ContentType="image/png"/>
  <Override PartName="/ppt/media/image8.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F14E9-405E-4FD5-89EE-0E8F6D70C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69EF6-A9E7-4C34-830D-EC6D03E88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C0BA4-DA14-4CC6-8383-539E589A2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A2F99-A467-4E47-88C4-98C7F065B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FABBC-A95C-43DA-B389-8BA178BCF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D6DEA-24AB-44C0-951E-FC3232AB9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DE3A5-7C2A-470E-9E0E-5644F3157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17165-0C45-4765-8C6E-2B8BA9AA9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0FE09-6ACC-4EB1-8762-4C0C5BF51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3B532-90BD-4A5E-BDB1-219B5A826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B1801-201F-45BF-A4CE-FF3708E6B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0C4B5-5347-48A3-A13B-B04FEE584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FC9D7-A401-40E1-95C3-D9ECB27B2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1A7A7-CDB5-487E-BC9E-55FC71DF9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7BDEE-2B77-47FD-807F-82BC14BD1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9F855-36EA-4DC2-A261-8345FC8AD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25C85-AE1D-405C-8806-D2FE6FE386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1455E-9DA8-4877-84CE-E0E38E230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43540-9264-4512-95F7-8929928F3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06587-35B8-4A7C-AFFB-E98C259AB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F36EE-057A-4637-851E-2644F6764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E1B01-0E42-4A03-9CF4-328957775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900D5-6AFF-4156-9964-17D716A43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CA7B5-DA80-46D0-BC70-9069B9385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910D-4AC4-4C0A-B98D-42CF93F57467}"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9724-1242-4EAA-B831-CBA9DEBD21B5}"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kazaa.com/index.htm" TargetMode="External"/><Relationship Id="rId3" Type="http://schemas.openxmlformats.org/officeDocument/2006/relationships/image" Target="../media/image7.png"/><Relationship Id="rId4" Type="http://schemas.openxmlformats.org/officeDocument/2006/relationships/hyperlink" Target="http://download.bearshare.com/BSPROINSTALL.exe" TargetMode="External"/><Relationship Id="rId5" Type="http://schemas.openxmlformats.org/officeDocument/2006/relationships/image" Target="../media/image8.png"/><Relationship Id="rId6"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hyperlink" Target="http://www.blockbuster.com/bb/article/details/0,7413,ART-670,00.html?" TargetMode="External"/><Relationship Id="rId2" Type="http://schemas.openxmlformats.org/officeDocument/2006/relationships/image" Target="../media/image9.jpeg"/><Relationship Id="rId3" Type="http://schemas.openxmlformats.org/officeDocument/2006/relationships/hyperlink" Target="http://laptop.goodmonk.local/index.php?SID=get3d0719b850d0c" TargetMode="Externa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sumer Media Protections (CMP)</a:t>
            </a:r>
            <a:endParaRPr b="0" lang="en-US" sz="4400" spc="-1" strike="noStrike">
              <a:solidFill>
                <a:srgbClr val="003366"/>
              </a:solidFill>
              <a:latin typeface="Verdana"/>
            </a:endParaRPr>
          </a:p>
        </p:txBody>
      </p:sp>
      <p:sp>
        <p:nvSpPr>
          <p:cNvPr id="210"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Think About</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s anyone burned a CD for a friend? Did they purchase that CD afterwards?</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your DVD player hooked to your television via VIDEO, S-VIDEO or Component?</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 you own a copy of The Patriot DVD? (RCE)</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ve you ever modified or had modified a game console (PS1)?</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long does a US Copyright last? (post-1978=death+70yrs, pre-1978=95yrs)</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Link on CD, (R)=Resource on CD</a:t>
            </a:r>
            <a:endParaRPr b="0" lang="en-US" sz="1600" spc="-1" strike="noStrike">
              <a:solidFill>
                <a:srgbClr val="000000"/>
              </a:solidFill>
              <a:latin typeface="Verdana"/>
            </a:endParaRPr>
          </a:p>
        </p:txBody>
      </p:sp>
      <p:pic>
        <p:nvPicPr>
          <p:cNvPr id="211"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12" name="" descr=""/>
          <p:cNvPicPr/>
          <p:nvPr/>
        </p:nvPicPr>
        <p:blipFill>
          <a:blip r:embed="rId3"/>
          <a:stretch/>
        </p:blipFill>
        <p:spPr>
          <a:xfrm>
            <a:off x="1295280" y="2819520"/>
            <a:ext cx="1190880" cy="760320"/>
          </a:xfrm>
          <a:prstGeom prst="rect">
            <a:avLst/>
          </a:prstGeom>
          <a:ln w="0">
            <a:noFill/>
          </a:ln>
        </p:spPr>
      </p:pic>
      <p:pic>
        <p:nvPicPr>
          <p:cNvPr id="213" name="hdr_logo_sony" descr="Sony"/>
          <p:cNvPicPr/>
          <p:nvPr/>
        </p:nvPicPr>
        <p:blipFill>
          <a:blip r:embed="rId4"/>
          <a:stretch/>
        </p:blipFill>
        <p:spPr>
          <a:xfrm>
            <a:off x="1295280" y="3809880"/>
            <a:ext cx="1154160" cy="594000"/>
          </a:xfrm>
          <a:prstGeom prst="rect">
            <a:avLst/>
          </a:prstGeom>
          <a:ln w="0">
            <a:noFill/>
          </a:ln>
        </p:spPr>
      </p:pic>
      <p:pic>
        <p:nvPicPr>
          <p:cNvPr id="214"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3</a:t>
            </a:r>
            <a:endParaRPr b="0" lang="en-US" sz="4400" spc="-1" strike="noStrike">
              <a:solidFill>
                <a:srgbClr val="003366"/>
              </a:solidFill>
              <a:latin typeface="Verdana"/>
            </a:endParaRPr>
          </a:p>
        </p:txBody>
      </p:sp>
      <p:sp>
        <p:nvSpPr>
          <p:cNvPr id="24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1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a restrictions: CD-ROM and region-cod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authenticates region and media-based key during boot and refuses to loa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games have LibCrypt included which detects a ModChip (authentication bypass) and refuses to load, developed by Sony</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games have custom CMP including extra files, unreadable data or false headers preventing many PC apps’ duplication succ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4</a:t>
            </a:r>
            <a:endParaRPr b="0" lang="en-US" sz="4400" spc="-1" strike="noStrike">
              <a:solidFill>
                <a:srgbClr val="003366"/>
              </a:solidFill>
              <a:latin typeface="Verdana"/>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2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a restrictions: DVD-ROM, CD-ROM and region-cod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authenticates the region and media-based key, corrupts game if fail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Chips come in different versions for region-free/specific and key-disabl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ny has successfully prosecuted ModChip manufacturers in U.S. using DCMA threa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5</a:t>
            </a:r>
            <a:endParaRPr b="0" lang="en-US" sz="44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CMP</a:t>
            </a:r>
            <a:endParaRPr b="0" lang="en-US" sz="28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a restrictions: DVD-ROM, CD-ROM and key-encrypted</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tender and Enigmah ModChips: play import and backup games, disable DVD MV and region-encoding, allow custom code at boot</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ent push to get Linux running on an Xbox, $200,000 prize, first program developed w/o Xbox SDK</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by MIT Computer Scientist of Xbox CMP reveals weaknesses and bypass </a:t>
            </a:r>
            <a:r>
              <a:rPr b="0" i="1" lang="en-US" sz="2000" spc="-1" strike="noStrike">
                <a:solidFill>
                  <a:srgbClr val="000000"/>
                </a:solidFill>
                <a:latin typeface="Verdana"/>
              </a:rPr>
              <a:t>(R1)</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Microsoft sacrificed bus speed for CMP complexity, performance hi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6</a:t>
            </a:r>
            <a:endParaRPr b="0" lang="en-US" sz="44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 / Tools</a:t>
            </a:r>
            <a:endParaRPr b="0" lang="en-US" sz="2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Console DVD playback: pass your analog output through a video filter (Sima Color Corrector, Zorilla Video Filter)</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py PS1 games: use the proper settings in Nero or try a RAW-mode copier such as CloneCD </a:t>
            </a:r>
            <a:r>
              <a:rPr b="0" i="1" lang="en-US" sz="1800" spc="-1" strike="noStrike">
                <a:solidFill>
                  <a:srgbClr val="000000"/>
                </a:solidFill>
                <a:latin typeface="Verdana"/>
              </a:rPr>
              <a:t>(R2)</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py PS2 or Xbox games: use a DVD ripper</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PS1 CMP bypass: bootable CD,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PS2 CMP bypass: solder/no-solder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Xbox CMP bypass: solder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the horizon: Xbox hard-drive game storage/loader </a:t>
            </a:r>
            <a:r>
              <a:rPr b="0" i="1" lang="en-US" sz="1800" spc="-1" strike="noStrike">
                <a:solidFill>
                  <a:srgbClr val="000000"/>
                </a:solidFill>
                <a:latin typeface="Verdana"/>
              </a:rPr>
              <a:t>(L1)</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box custom software such as a Media Player, DivX, etc.</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7</a:t>
            </a:r>
            <a:endParaRPr b="0" lang="en-US" sz="4400" spc="-1" strike="noStrike">
              <a:solidFill>
                <a:srgbClr val="003366"/>
              </a:solidFill>
              <a:latin typeface="Verdan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Copying A PS1 Game</a:t>
            </a:r>
            <a:endParaRPr b="0" lang="en-US" sz="32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ware: Toshiba laptop with built-in CD-RW, PlayStation 1 gam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ify Nero settings to properly read/write CD</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py gam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boot-loader option</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ModChip op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1</a:t>
            </a:r>
            <a:endParaRPr b="0" lang="en-US" sz="4400" spc="-1" strike="noStrike">
              <a:solidFill>
                <a:srgbClr val="003366"/>
              </a:solidFill>
              <a:latin typeface="Verdana"/>
            </a:endParaRPr>
          </a:p>
        </p:txBody>
      </p:sp>
      <p:sp>
        <p:nvSpPr>
          <p:cNvPr id="259"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crovision, the only game in tow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crovision work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CMP (VHS, DVD)</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CMP</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pic>
        <p:nvPicPr>
          <p:cNvPr id="260" name="home_center_image" descr=""/>
          <p:cNvPicPr/>
          <p:nvPr/>
        </p:nvPicPr>
        <p:blipFill>
          <a:blip r:embed="rId1"/>
          <a:stretch/>
        </p:blipFill>
        <p:spPr>
          <a:xfrm>
            <a:off x="822240" y="2209680"/>
            <a:ext cx="3978360" cy="379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2</a:t>
            </a:r>
            <a:endParaRPr b="0" lang="en-US" sz="4400" spc="-1" strike="noStrike">
              <a:solidFill>
                <a:srgbClr val="003366"/>
              </a:solidFill>
              <a:latin typeface="Verdana"/>
            </a:endParaRPr>
          </a:p>
        </p:txBody>
      </p:sp>
      <p:sp>
        <p:nvSpPr>
          <p:cNvPr id="26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crovision, the only game in town</a:t>
            </a:r>
            <a:endParaRPr b="0" lang="en-US" sz="28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crovision was founded in February of 1983 in sunny California and is publicly-traded on NASDAQ</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licenses their technology to DVD, Semiconductor, Set-top Box, PVR, PPV, VHS and Replicators (DVD-R)</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technology can be applied internationally to all video standards (PAL/NTSC)</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sued by Verance for patent infringements on video signal protection and watermarking</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May, Warner Bros. released </a:t>
            </a:r>
            <a:r>
              <a:rPr b="0" i="1" lang="en-US" sz="2000" spc="-1" strike="noStrike">
                <a:solidFill>
                  <a:srgbClr val="000000"/>
                </a:solidFill>
                <a:latin typeface="Verdana"/>
              </a:rPr>
              <a:t>Harry Potter</a:t>
            </a:r>
            <a:r>
              <a:rPr b="0" lang="en-US" sz="2000" spc="-1" strike="noStrike">
                <a:solidFill>
                  <a:srgbClr val="000000"/>
                </a:solidFill>
                <a:latin typeface="Verdana"/>
              </a:rPr>
              <a:t> without MV in the U.S./U.K., the first commercially-released MV-free DVD ever. MV changed their licensing to require 100% coverage or an external label from now 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3</a:t>
            </a:r>
            <a:endParaRPr b="0" lang="en-US" sz="4400" spc="-1" strike="noStrike">
              <a:solidFill>
                <a:srgbClr val="003366"/>
              </a:solidFill>
              <a:latin typeface="Verdana"/>
            </a:endParaRPr>
          </a:p>
        </p:txBody>
      </p:sp>
      <p:sp>
        <p:nvSpPr>
          <p:cNvPr id="26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crovision works</a:t>
            </a:r>
            <a:endParaRPr b="0" lang="en-US" sz="28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V adds carefully timed electronic pulses to a video signal during duplication that alternate high/low</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ection-through-degradation (bad!): TVs tolerate while VCRs fail to keep sync</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uses a VCR’s automatic gain control (AGC) causing banding and dropout</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l-tale signs: VHS tapes that alternate light-to-dark at the top, DVD-to-VCR recording problems (sync, b&amp;w)</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family videos erode and trigger MV!</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4</a:t>
            </a:r>
            <a:endParaRPr b="0" lang="en-US" sz="4400" spc="-1" strike="noStrike">
              <a:solidFill>
                <a:srgbClr val="003366"/>
              </a:solidFill>
              <a:latin typeface="Verdana"/>
            </a:endParaRPr>
          </a:p>
        </p:txBody>
      </p:sp>
      <p:sp>
        <p:nvSpPr>
          <p:cNvPr id="26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CMP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0 million videocassettes are MV-protect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VDs may include Macrovision and/or Content Scrambling System (CS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SS uses a secret key exchange to ensure that DVD video and audio (MPEG2) are unencrypted by the player</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V is “triggered-distortion” and is part of the DVD Video spec, license and recommend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5</a:t>
            </a:r>
            <a:endParaRPr b="0" lang="en-US" sz="4400" spc="-1" strike="noStrike">
              <a:solidFill>
                <a:srgbClr val="003366"/>
              </a:solidFill>
              <a:latin typeface="Verdana"/>
            </a:endParaRPr>
          </a:p>
        </p:txBody>
      </p:sp>
      <p:sp>
        <p:nvSpPr>
          <p:cNvPr id="26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CMPs</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VD analog outs: VIDEO and S-VIDEO MV-enabled…by the video processor</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Radeon and All-In-Wonder cards: video processor-embedded, forced into a license by MV after abuses, contains MV on inputs and output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inputs driver-limited to 10-30 seconds of recording, produces stalling and skipping</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outputs produce MV signal on all recording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vidia and S3 planning future modifica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See No Evil, Hear No Evil, Speak No Evil</a:t>
            </a:r>
            <a:endParaRPr b="0" lang="en-US" sz="4400" spc="-1" strike="noStrike">
              <a:solidFill>
                <a:srgbClr val="003366"/>
              </a:solidFill>
              <a:latin typeface="Verdana"/>
            </a:endParaRPr>
          </a:p>
        </p:txBody>
      </p:sp>
      <p:sp>
        <p:nvSpPr>
          <p:cNvPr id="216"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We’re Going To Talk About</a:t>
            </a:r>
            <a:endParaRPr b="0" lang="en-US" sz="18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isting CMPs in video games, video and audio</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ws and arguments pro/con</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epth: existing video game CMPs including Playstation 1, Playstation 2 and Microsoft’s Xbox</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 video game CMP (PS1),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epth: existing video CMPs including VHS, DVD and graphics card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 video CMP (Macrovision),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depth: existing audio CMPs in CD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n audio CMP (key2audio),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MP Realities and Rights</a:t>
            </a:r>
            <a:endParaRPr b="0" lang="en-US" sz="1600" spc="-1" strike="noStrike">
              <a:solidFill>
                <a:srgbClr val="000000"/>
              </a:solidFill>
              <a:latin typeface="Verdana"/>
            </a:endParaRPr>
          </a:p>
        </p:txBody>
      </p:sp>
      <p:pic>
        <p:nvPicPr>
          <p:cNvPr id="217"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18" name="" descr=""/>
          <p:cNvPicPr/>
          <p:nvPr/>
        </p:nvPicPr>
        <p:blipFill>
          <a:blip r:embed="rId3"/>
          <a:stretch/>
        </p:blipFill>
        <p:spPr>
          <a:xfrm>
            <a:off x="1295280" y="2819520"/>
            <a:ext cx="1190880" cy="760320"/>
          </a:xfrm>
          <a:prstGeom prst="rect">
            <a:avLst/>
          </a:prstGeom>
          <a:ln w="0">
            <a:noFill/>
          </a:ln>
        </p:spPr>
      </p:pic>
      <p:pic>
        <p:nvPicPr>
          <p:cNvPr id="219" name="hdr_logo_sony" descr="Sony"/>
          <p:cNvPicPr/>
          <p:nvPr/>
        </p:nvPicPr>
        <p:blipFill>
          <a:blip r:embed="rId4"/>
          <a:stretch/>
        </p:blipFill>
        <p:spPr>
          <a:xfrm>
            <a:off x="1295280" y="3809880"/>
            <a:ext cx="1154160" cy="594000"/>
          </a:xfrm>
          <a:prstGeom prst="rect">
            <a:avLst/>
          </a:prstGeom>
          <a:ln w="0">
            <a:noFill/>
          </a:ln>
        </p:spPr>
      </p:pic>
      <p:pic>
        <p:nvPicPr>
          <p:cNvPr id="220"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6</a:t>
            </a:r>
            <a:endParaRPr b="0" lang="en-US" sz="4400" spc="-1" strike="noStrike">
              <a:solidFill>
                <a:srgbClr val="003366"/>
              </a:solidFill>
              <a:latin typeface="Verdana"/>
            </a:endParaRPr>
          </a:p>
        </p:txBody>
      </p:sp>
      <p:sp>
        <p:nvSpPr>
          <p:cNvPr id="27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ies / Tools</a:t>
            </a:r>
            <a:endParaRPr b="0" lang="en-US" sz="32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VHS, S-VHS or DVD: pass your analog output through a video filter (Sima Color Corrector, Zorilla Video Filter) or non-Macrovision inhibited monitor (Canopus ADVC-100, even has Firewire!)</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Hardware DVD: purchase a hackable or modifiable DVD player, list at VCDHelp </a:t>
            </a:r>
            <a:r>
              <a:rPr b="0" i="1" lang="en-US" sz="1600" spc="-1" strike="noStrike">
                <a:solidFill>
                  <a:srgbClr val="000000"/>
                </a:solidFill>
                <a:latin typeface="Verdana"/>
              </a:rPr>
              <a:t>(L2)</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Software DVD: simultaneously run an application such as Remote Selector Tool </a:t>
            </a:r>
            <a:r>
              <a:rPr b="0" i="1" lang="en-US" sz="1600" spc="-1" strike="noStrike">
                <a:solidFill>
                  <a:srgbClr val="000000"/>
                </a:solidFill>
                <a:latin typeface="Verdana"/>
              </a:rPr>
              <a:t>(L3)</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DVD burners: rip your DVD to a file on your HD and strip out MV w/ SmartRipper, etc.</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ATI cards: disable MV with a patch from Doom9 </a:t>
            </a:r>
            <a:r>
              <a:rPr b="0" i="1" lang="en-US" sz="1600" spc="-1" strike="noStrike">
                <a:solidFill>
                  <a:srgbClr val="000000"/>
                </a:solidFill>
                <a:latin typeface="Verdana"/>
              </a:rPr>
              <a:t>(L4)</a:t>
            </a:r>
            <a:r>
              <a:rPr b="0" lang="en-US" sz="1600" spc="-1" strike="noStrike">
                <a:solidFill>
                  <a:srgbClr val="000000"/>
                </a:solidFill>
                <a:latin typeface="Verdana"/>
              </a:rPr>
              <a:t>, also contains tutorials and app links</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analog video capture: use alternative MV-free capture cards like Hauppauge WinTV, Pinnacle Studio AV or Dazz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7</a:t>
            </a:r>
            <a:endParaRPr b="0" lang="en-US" sz="4400" spc="-1" strike="noStrike">
              <a:solidFill>
                <a:srgbClr val="003366"/>
              </a:solidFill>
              <a:latin typeface="Verdana"/>
            </a:endParaRPr>
          </a:p>
        </p:txBody>
      </p:sp>
      <p:sp>
        <p:nvSpPr>
          <p:cNvPr id="27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nSpc>
                <a:spcPct val="9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mo: MV-free Video Capture</a:t>
            </a:r>
            <a:endParaRPr b="0" lang="en-US" sz="36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Toshiba laptop, DVD player, ADS Firewire (Cardbus), Canopus ADVC-100</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ture to AVI “Matrix” 30secs raw</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result, notice MV degradation</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undocumented method to remove Macrovision detection/pass-through on Canopus (Input Select w/ color bars)</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ture to AVI “Matrix” 30secs MV-free</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result, so fresh and so clean, clea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1</a:t>
            </a:r>
            <a:endParaRPr b="0" lang="en-US" sz="4400" spc="-1" strike="noStrike">
              <a:solidFill>
                <a:srgbClr val="003366"/>
              </a:solidFill>
              <a:latin typeface="Verdana"/>
            </a:endParaRPr>
          </a:p>
        </p:txBody>
      </p:sp>
      <p:sp>
        <p:nvSpPr>
          <p:cNvPr id="274"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ary fact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2Audio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grpSp>
        <p:nvGrpSpPr>
          <p:cNvPr id="275" name=""/>
          <p:cNvGrpSpPr/>
          <p:nvPr/>
        </p:nvGrpSpPr>
        <p:grpSpPr>
          <a:xfrm>
            <a:off x="0" y="2435400"/>
            <a:ext cx="9144000" cy="1950840"/>
            <a:chOff x="0" y="2435400"/>
            <a:chExt cx="9144000" cy="1950840"/>
          </a:xfrm>
        </p:grpSpPr>
        <p:sp>
          <p:nvSpPr>
            <p:cNvPr id="276" name=""/>
            <p:cNvSpPr/>
            <p:nvPr/>
          </p:nvSpPr>
          <p:spPr>
            <a:xfrm>
              <a:off x="0" y="24354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77" name=""/>
            <p:cNvSpPr/>
            <p:nvPr/>
          </p:nvSpPr>
          <p:spPr>
            <a:xfrm>
              <a:off x="0" y="2435400"/>
              <a:ext cx="9144000" cy="195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Verdana"/>
                </a:rPr>
                <a:t>  </a:t>
              </a:r>
              <a:r>
                <a:rPr b="0" lang="en-US" sz="12200" spc="-1" strike="noStrike">
                  <a:solidFill>
                    <a:srgbClr val="003399"/>
                  </a:solidFill>
                  <a:latin typeface="Verdana"/>
                </a:rPr>
                <a:t> </a:t>
              </a:r>
              <a:r>
                <a:rPr b="0" lang="en-US" sz="1000" spc="-1" strike="noStrike">
                  <a:solidFill>
                    <a:srgbClr val="003399"/>
                  </a:solidFill>
                  <a:latin typeface="Verdana"/>
                </a:rPr>
                <a:t>                                          </a:t>
              </a:r>
              <a:endParaRPr b="0" lang="en-US" sz="1000" spc="-1" strike="noStrike">
                <a:solidFill>
                  <a:srgbClr val="000000"/>
                </a:solidFill>
                <a:latin typeface="Arial"/>
              </a:endParaRPr>
            </a:p>
          </p:txBody>
        </p:sp>
      </p:grpSp>
      <p:pic>
        <p:nvPicPr>
          <p:cNvPr id="278" name="00459091" descr="Cover Image"/>
          <p:cNvPicPr/>
          <p:nvPr/>
        </p:nvPicPr>
        <p:blipFill>
          <a:blip r:embed="rId1"/>
          <a:stretch/>
        </p:blipFill>
        <p:spPr>
          <a:xfrm>
            <a:off x="1600200" y="2057400"/>
            <a:ext cx="1943280" cy="1943280"/>
          </a:xfrm>
          <a:prstGeom prst="rect">
            <a:avLst/>
          </a:prstGeom>
          <a:ln w="0">
            <a:noFill/>
          </a:ln>
        </p:spPr>
      </p:pic>
      <p:pic>
        <p:nvPicPr>
          <p:cNvPr id="279" name="00395393" descr="Cover Image"/>
          <p:cNvPicPr/>
          <p:nvPr/>
        </p:nvPicPr>
        <p:blipFill>
          <a:blip r:embed="rId2"/>
          <a:stretch/>
        </p:blipFill>
        <p:spPr>
          <a:xfrm>
            <a:off x="1600200" y="4343400"/>
            <a:ext cx="1943280" cy="194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2</a:t>
            </a:r>
            <a:endParaRPr b="0" lang="en-US" sz="4400" spc="-1" strike="noStrike">
              <a:solidFill>
                <a:srgbClr val="003366"/>
              </a:solidFill>
              <a:latin typeface="Verdana"/>
            </a:endParaRPr>
          </a:p>
        </p:txBody>
      </p:sp>
      <p:sp>
        <p:nvSpPr>
          <p:cNvPr id="28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ary facts</a:t>
            </a:r>
            <a:endParaRPr b="0" lang="en-US" sz="28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rst U.S. CD released with copy protection was Charley Pride’s </a:t>
            </a:r>
            <a:r>
              <a:rPr b="0" i="1" lang="en-US" sz="2000" spc="-1" strike="noStrike">
                <a:solidFill>
                  <a:srgbClr val="000000"/>
                </a:solidFill>
                <a:latin typeface="Verdana"/>
              </a:rPr>
              <a:t>Tribute To Jim Reeves</a:t>
            </a:r>
            <a:r>
              <a:rPr b="0" lang="en-US" sz="2000" spc="-1" strike="noStrike">
                <a:solidFill>
                  <a:srgbClr val="000000"/>
                </a:solidFill>
                <a:latin typeface="Verdana"/>
              </a:rPr>
              <a:t> by Fahrenheit Entertainment, a lawsuit in California resulted</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rding to Jupiter Communications, only 2% of CD buyers rip to MP3 and publish 1</a:t>
            </a:r>
            <a:r>
              <a:rPr b="0" lang="en-US" sz="2000" spc="-1" strike="noStrike" baseline="30000">
                <a:solidFill>
                  <a:srgbClr val="000000"/>
                </a:solidFill>
                <a:latin typeface="Verdana"/>
              </a:rPr>
              <a:t>st</a:t>
            </a:r>
            <a:r>
              <a:rPr b="0" lang="en-US" sz="2000" spc="-1" strike="noStrike">
                <a:solidFill>
                  <a:srgbClr val="000000"/>
                </a:solidFill>
                <a:latin typeface="Verdana"/>
              </a:rPr>
              <a:t>-generation material to file-sharing services</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though Eminem’s </a:t>
            </a:r>
            <a:r>
              <a:rPr b="0" i="1" lang="en-US" sz="2000" spc="-1" strike="noStrike">
                <a:solidFill>
                  <a:srgbClr val="000000"/>
                </a:solidFill>
                <a:latin typeface="Verdana"/>
              </a:rPr>
              <a:t>The Eminem Show</a:t>
            </a:r>
            <a:r>
              <a:rPr b="0" lang="en-US" sz="2000" spc="-1" strike="noStrike">
                <a:solidFill>
                  <a:srgbClr val="000000"/>
                </a:solidFill>
                <a:latin typeface="Verdana"/>
              </a:rPr>
              <a:t> was the most heavily pirated and swapped CD ever, it still sold 284,000 in three days and 1.3 million in week one</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g5 music distribution companies (Universal, Sony, Warner, BMG and EMI) control 90% of all music</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many estimates, six million CMP CDs have been slipstreamed into U.S. retail </a:t>
            </a:r>
            <a:r>
              <a:rPr b="0" lang="en-US" sz="2000" spc="-1" strike="noStrike" u="sng">
                <a:solidFill>
                  <a:srgbClr val="000000"/>
                </a:solidFill>
                <a:uFillTx/>
                <a:latin typeface="Verdana"/>
              </a:rPr>
              <a:t>without warning label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3</a:t>
            </a:r>
            <a:endParaRPr b="0" lang="en-US" sz="4400" spc="-1" strike="noStrike">
              <a:solidFill>
                <a:srgbClr val="003366"/>
              </a:solidFill>
              <a:latin typeface="Verdana"/>
            </a:endParaRPr>
          </a:p>
        </p:txBody>
      </p:sp>
      <p:sp>
        <p:nvSpPr>
          <p:cNvPr id="28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CMP </a:t>
            </a:r>
            <a:r>
              <a:rPr b="0" i="1" lang="en-US" sz="2800" spc="-1" strike="noStrike">
                <a:solidFill>
                  <a:srgbClr val="000000"/>
                </a:solidFill>
                <a:latin typeface="Verdana"/>
              </a:rPr>
              <a:t>(R3+R4)</a:t>
            </a:r>
            <a:endParaRPr b="0" lang="en-US" sz="28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ed for $20 million+ by Macrovision and TTR, introduced 2001, Big5 looking at adding it 2002</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than 2 million SafeAudio CMP CDs are in circulation including N’Sync </a:t>
            </a:r>
            <a:r>
              <a:rPr b="0" i="1" lang="en-US" sz="2000" spc="-1" strike="noStrike">
                <a:solidFill>
                  <a:srgbClr val="000000"/>
                </a:solidFill>
                <a:latin typeface="Verdana"/>
              </a:rPr>
              <a:t>Celebrity</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 different components: coding protection, timing protection and hiding audio tracks from PCs</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s by exploiting the poor error correction capabilities of PC CD drives, v3 works at the music data’s bit level by creating slight, random bit corruptions which cause pops and brownouts</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Audio coding protection (structural) is rated 99% readable in consumer audio devi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4</a:t>
            </a:r>
            <a:endParaRPr b="0" lang="en-US" sz="4400" spc="-1" strike="noStrike">
              <a:solidFill>
                <a:srgbClr val="003366"/>
              </a:solidFill>
              <a:latin typeface="Verdana"/>
            </a:endParaRPr>
          </a:p>
        </p:txBody>
      </p:sp>
      <p:sp>
        <p:nvSpPr>
          <p:cNvPr id="28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2Audio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for $40 million+ by Sony, introduced 2001, Sony labels and licensee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re than 17 million key2audio CMP CDs are in circulation including Celine Dion’s latest</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 by placing a special hidden signature and junk data files on the outside of CD during manufacturing, CD-R/RW unreadabl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o portion of key2audio CMP CD conforms to Red Book standard, unchanged strea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5</a:t>
            </a:r>
            <a:endParaRPr b="0" lang="en-US" sz="4400" spc="-1" strike="noStrike">
              <a:solidFill>
                <a:srgbClr val="003366"/>
              </a:solidFill>
              <a:latin typeface="Verdana"/>
            </a:endParaRPr>
          </a:p>
        </p:txBody>
      </p:sp>
      <p:sp>
        <p:nvSpPr>
          <p:cNvPr id="28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ies / Tools</a:t>
            </a:r>
            <a:endParaRPr b="0" lang="en-US" sz="32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alyze which audio CMP is used via ClonyXXL </a:t>
            </a:r>
            <a:r>
              <a:rPr b="0" i="1" lang="en-US" sz="1600" spc="-1" strike="noStrike">
                <a:solidFill>
                  <a:srgbClr val="000000"/>
                </a:solidFill>
                <a:latin typeface="Verdana"/>
              </a:rPr>
              <a:t>(R5)</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y a RAW-mode CD-R/RW such as Lite-On 16X+, verify support via CloneCD at </a:t>
            </a:r>
            <a:r>
              <a:rPr b="0" i="1" lang="en-US" sz="1600" spc="-1" strike="noStrike">
                <a:solidFill>
                  <a:srgbClr val="000000"/>
                </a:solidFill>
                <a:latin typeface="Verdana"/>
              </a:rPr>
              <a:t>(L5)</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cover specifications and burning techniques for CMPs at CD Media World </a:t>
            </a:r>
            <a:r>
              <a:rPr b="0" i="1" lang="en-US" sz="1600" spc="-1" strike="noStrike">
                <a:solidFill>
                  <a:srgbClr val="000000"/>
                </a:solidFill>
                <a:latin typeface="Verdana"/>
              </a:rPr>
              <a:t>(L6)</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SafeAudio CDs: use analog-to-digital rip trick below or for Windows 9X use the alternate cdfs.vxd </a:t>
            </a:r>
            <a:r>
              <a:rPr b="0" i="1" lang="en-US" sz="1600" spc="-1" strike="noStrike">
                <a:solidFill>
                  <a:srgbClr val="000000"/>
                </a:solidFill>
                <a:latin typeface="Verdana"/>
              </a:rPr>
              <a:t>(R6)</a:t>
            </a:r>
            <a:r>
              <a:rPr b="0" lang="en-US" sz="1600" spc="-1" strike="noStrike">
                <a:solidFill>
                  <a:srgbClr val="000000"/>
                </a:solidFill>
                <a:latin typeface="Verdana"/>
              </a:rPr>
              <a:t> driver which shows .cda tracks as .wav files, drag-and-drop</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Key2Audio CDs: employ the black marker method, use an opaque, permanent marker to draw a 1/4 –inch ring around the outside of your CD and voila! Play it and burn it.</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alog-to-digital: patch line-out to line-in (RadioShack), record wav, split into tracks, convert to MP3 using MusicMatch</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an MP3 recording device that accepts line-in such as the PoGo RipFlash </a:t>
            </a:r>
            <a:r>
              <a:rPr b="0" i="1" lang="en-US" sz="1600" spc="-1" strike="noStrike">
                <a:solidFill>
                  <a:srgbClr val="000000"/>
                </a:solidFill>
                <a:latin typeface="Verdana"/>
              </a:rPr>
              <a:t>(L7)</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6</a:t>
            </a:r>
            <a:endParaRPr b="0" lang="en-US" sz="4400" spc="-1" strike="noStrike">
              <a:solidFill>
                <a:srgbClr val="003366"/>
              </a:solidFill>
              <a:latin typeface="Verdana"/>
            </a:endParaRPr>
          </a:p>
        </p:txBody>
      </p:sp>
      <p:sp>
        <p:nvSpPr>
          <p:cNvPr id="28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Analog-&gt;WAV-&gt;MP3</a:t>
            </a:r>
            <a:endParaRPr b="0" lang="en-US" sz="32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ware: Toshiba laptop, CD Player, patch cord, Michael Jackson CD (used, of cours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empt to play in PC. Won’t even read CD.</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copy protection using ClonyXXL.</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p to WAV via line-in.</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t to MP3.</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y result. Clean copy.</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TCHA: Beware of recording levels</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Use SPDIF I/O for pure digital copyin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1</a:t>
            </a:r>
            <a:endParaRPr b="0" lang="en-US" sz="4400" spc="-1" strike="noStrike">
              <a:solidFill>
                <a:srgbClr val="003366"/>
              </a:solidFill>
              <a:latin typeface="Verdana"/>
            </a:endParaRPr>
          </a:p>
        </p:txBody>
      </p:sp>
      <p:sp>
        <p:nvSpPr>
          <p:cNvPr id="29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umer Media Protections (CMP)</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deo Games: PS1, PS2, Xbox employ media format tricks and techniqu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deo: ugly, bad Macrovision in software and through hard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o: SafeAudio, Key2Audio work through structural modification and audio corrup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2</a:t>
            </a:r>
            <a:endParaRPr b="0" lang="en-US" sz="4400" spc="-1" strike="noStrike">
              <a:solidFill>
                <a:srgbClr val="003366"/>
              </a:solidFill>
              <a:latin typeface="Verdana"/>
            </a:endParaRPr>
          </a:p>
        </p:txBody>
      </p:sp>
      <p:sp>
        <p:nvSpPr>
          <p:cNvPr id="29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3394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Realities</a:t>
            </a:r>
            <a:endParaRPr b="0" lang="en-US" sz="28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thing digitally-created will be bypassed</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e protection would remove the incentive (economic) of commercial gain</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yright law is outdated and needs to be amended for digital technologies</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ws discussed provide consumers with well-defined personal-use rights</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gressmen probably listen to WAV and MP3 mixed CDs behind closed doo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Facts and Figures</a:t>
            </a:r>
            <a:endParaRPr b="0" lang="en-US" sz="4400" spc="-1" strike="noStrike">
              <a:solidFill>
                <a:srgbClr val="003366"/>
              </a:solidFill>
              <a:latin typeface="Verdana"/>
            </a:endParaRPr>
          </a:p>
        </p:txBody>
      </p:sp>
      <p:sp>
        <p:nvSpPr>
          <p:cNvPr id="222"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RUTH</a:t>
            </a:r>
            <a:endParaRPr b="0" lang="en-US" sz="18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RNING: This stuff will make you angry but at least you’ll learn enough to argue and fight effectively</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upiter Communications: Napster and other file-sharing users are 45% more likely to purchase music</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artner Group: CD sales were up 10% each quarter while file-sharing services were operating unrestricted</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deoBusiness: 20% of DVD players sold internationally are region-free</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 30% of Blockbuster game renters have pirated at least one PS1 game</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 40 million DVD players will be in U.S. homes by the end of 2002, fastest adoption of a consumer device</a:t>
            </a:r>
            <a:endParaRPr b="0" lang="en-US" sz="1600" spc="-1" strike="noStrike">
              <a:solidFill>
                <a:srgbClr val="000000"/>
              </a:solidFill>
              <a:latin typeface="Verdana"/>
            </a:endParaRPr>
          </a:p>
        </p:txBody>
      </p:sp>
      <p:pic>
        <p:nvPicPr>
          <p:cNvPr id="223"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24" name="" descr=""/>
          <p:cNvPicPr/>
          <p:nvPr/>
        </p:nvPicPr>
        <p:blipFill>
          <a:blip r:embed="rId3"/>
          <a:stretch/>
        </p:blipFill>
        <p:spPr>
          <a:xfrm>
            <a:off x="1295280" y="2819520"/>
            <a:ext cx="1190880" cy="760320"/>
          </a:xfrm>
          <a:prstGeom prst="rect">
            <a:avLst/>
          </a:prstGeom>
          <a:ln w="0">
            <a:noFill/>
          </a:ln>
        </p:spPr>
      </p:pic>
      <p:pic>
        <p:nvPicPr>
          <p:cNvPr id="225" name="hdr_logo_sony" descr="Sony"/>
          <p:cNvPicPr/>
          <p:nvPr/>
        </p:nvPicPr>
        <p:blipFill>
          <a:blip r:embed="rId4"/>
          <a:stretch/>
        </p:blipFill>
        <p:spPr>
          <a:xfrm>
            <a:off x="1295280" y="3809880"/>
            <a:ext cx="1154160" cy="594000"/>
          </a:xfrm>
          <a:prstGeom prst="rect">
            <a:avLst/>
          </a:prstGeom>
          <a:ln w="0">
            <a:noFill/>
          </a:ln>
        </p:spPr>
      </p:pic>
      <p:pic>
        <p:nvPicPr>
          <p:cNvPr id="226"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3</a:t>
            </a:r>
            <a:endParaRPr b="0" lang="en-US" sz="4400" spc="-1" strike="noStrike">
              <a:solidFill>
                <a:srgbClr val="003366"/>
              </a:solidFill>
              <a:latin typeface="Verdana"/>
            </a:endParaRPr>
          </a:p>
        </p:txBody>
      </p:sp>
      <p:sp>
        <p:nvSpPr>
          <p:cNvPr id="29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What You Can Do (Media Corp.)</a:t>
            </a:r>
            <a:endParaRPr b="0" lang="en-US" sz="28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economic formula: best offer=the most accepted and successful after option</a:t>
            </a:r>
            <a:endParaRPr b="0" lang="en-US" sz="24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best offers”: </a:t>
            </a:r>
            <a:endParaRPr b="0" lang="en-US" sz="24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ease high-quality, high-caliber efforts that are actually good, good still sells</a:t>
            </a:r>
            <a:endParaRPr b="0" lang="en-US" sz="20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er the price of CDs closer to real-world manufacturing and distribution costs</a:t>
            </a:r>
            <a:endParaRPr b="0" lang="en-US" sz="20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 price and restrictions on downloadable music while broadening catalogs, micro-payments OK</a:t>
            </a:r>
            <a:endParaRPr b="0" lang="en-US" sz="20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p placing CMPs on video games, video signals or audio that degrades quality or playability, this is ANTI-CONSUM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4</a:t>
            </a:r>
            <a:endParaRPr b="0" lang="en-US" sz="4400" spc="-1" strike="noStrike">
              <a:solidFill>
                <a:srgbClr val="003366"/>
              </a:solidFill>
              <a:latin typeface="Verdana"/>
            </a:endParaRPr>
          </a:p>
        </p:txBody>
      </p:sp>
      <p:sp>
        <p:nvSpPr>
          <p:cNvPr id="29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What You Can Do (Individual)</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e legal personal-use of consumer media by exploring protection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ducate anyone who will listen</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rve your right to backup your expensive purchases such as DVDs and CD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use to buy CDs marked as protected (ex: “Will not play on MAC/PC”=key2audio)</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y a black Sharpie. Wear around nec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5</a:t>
            </a:r>
            <a:endParaRPr b="0" lang="en-US" sz="4400" spc="-1" strike="noStrike">
              <a:solidFill>
                <a:srgbClr val="003366"/>
              </a:solidFill>
              <a:latin typeface="Verdana"/>
            </a:endParaRPr>
          </a:p>
        </p:txBody>
      </p:sp>
      <p:sp>
        <p:nvSpPr>
          <p:cNvPr id="29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dir \CMP” on DEF CON 10 CD</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Presentation (PowerPoint)</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nyXXL (free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neCD (share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nate CDFS driver (Self-Extracting)</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FAQ &amp; Overview (PDF)</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paper from MIT (PDF)</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E shortcuts to sites mention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1</a:t>
            </a:r>
            <a:endParaRPr b="0" lang="en-US" sz="4400" spc="-1" strike="noStrike">
              <a:solidFill>
                <a:srgbClr val="003366"/>
              </a:solidFill>
              <a:latin typeface="Verdana"/>
            </a:endParaRPr>
          </a:p>
        </p:txBody>
      </p:sp>
      <p:sp>
        <p:nvSpPr>
          <p:cNvPr id="228"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Audio Home Recording Act (1992)</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guaranteed consumers the right to use all analog and digital audio recording formats to make personal-use copies of CDs and other digital sources of music.” (Computer Currents 6/02)</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points:</a:t>
            </a:r>
            <a:endParaRPr b="0" lang="en-US" sz="16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th analog/digital REC formats</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ects all personal-use</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fers to all current and future recording formats (CD-R/RW, MiniDisc, MemoryStick)</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ludes digital sources</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xes and non-copyrighted recordings OK but no $$$</a:t>
            </a:r>
            <a:endParaRPr b="0" lang="en-US" sz="1400" spc="-1" strike="noStrike">
              <a:solidFill>
                <a:srgbClr val="000000"/>
              </a:solidFill>
              <a:latin typeface="Verdana"/>
            </a:endParaRPr>
          </a:p>
        </p:txBody>
      </p:sp>
      <p:pic>
        <p:nvPicPr>
          <p:cNvPr id="229"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2</a:t>
            </a:r>
            <a:endParaRPr b="0" lang="en-US" sz="4400" spc="-1" strike="noStrike">
              <a:solidFill>
                <a:srgbClr val="003366"/>
              </a:solidFill>
              <a:latin typeface="Verdana"/>
            </a:endParaRPr>
          </a:p>
        </p:txBody>
      </p:sp>
      <p:sp>
        <p:nvSpPr>
          <p:cNvPr id="231"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Digital Millennium Copyright Act (1996)</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bans the manufacture and distribution of devices designed to undermine technology used to protect copyrighted works.” (Computer Currents 6/02)</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points:</a:t>
            </a:r>
            <a:endParaRPr b="0" lang="en-US" sz="16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device” is ambiguous, may refer to PDF crack, dongle, etc.</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technology” is non-specific, could be one ASM instruction or 448-bit Blowfish-encrypted routines, simple to complex</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y punish OEM manufacturers who are contracted to manufacture devices that ignore protections in favor of cost savings, etc.</a:t>
            </a:r>
            <a:endParaRPr b="0" lang="en-US" sz="1400" spc="-1" strike="noStrike">
              <a:solidFill>
                <a:srgbClr val="000000"/>
              </a:solidFill>
              <a:latin typeface="Verdana"/>
            </a:endParaRPr>
          </a:p>
        </p:txBody>
      </p:sp>
      <p:pic>
        <p:nvPicPr>
          <p:cNvPr id="232"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3</a:t>
            </a:r>
            <a:endParaRPr b="0" lang="en-US" sz="4400" spc="-1" strike="noStrike">
              <a:solidFill>
                <a:srgbClr val="003366"/>
              </a:solidFill>
              <a:latin typeface="Verdana"/>
            </a:endParaRPr>
          </a:p>
        </p:txBody>
      </p:sp>
      <p:sp>
        <p:nvSpPr>
          <p:cNvPr id="234"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No Electronic Theft Act (1997)</a:t>
            </a:r>
            <a:endParaRPr b="0" lang="en-US" sz="2000" spc="-1" strike="noStrike">
              <a:solidFill>
                <a:srgbClr val="000000"/>
              </a:solidFill>
              <a:latin typeface="Verdana"/>
            </a:endParaRPr>
          </a:p>
          <a:p>
            <a:pPr lvl="1" marL="743040" indent="-285840">
              <a:lnSpc>
                <a:spcPct val="8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sound recording infringements…can be criminally prosecuted even where no commercial gain is derived from the infringement” (Computer Currents 6/02)</a:t>
            </a:r>
            <a:endParaRPr b="0" lang="en-US" sz="1800" spc="-1" strike="noStrike">
              <a:solidFill>
                <a:srgbClr val="000000"/>
              </a:solidFill>
              <a:latin typeface="Verdana"/>
            </a:endParaRPr>
          </a:p>
          <a:p>
            <a:pPr lvl="1" marL="743040" indent="-285840">
              <a:lnSpc>
                <a:spcPct val="8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y points:</a:t>
            </a:r>
            <a:endParaRPr b="0" lang="en-US" sz="18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riginally intended for software</a:t>
            </a:r>
            <a:endParaRPr b="0" lang="en-US" sz="16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commercial gain” redefined as anything of value and prosecuted</a:t>
            </a:r>
            <a:endParaRPr b="0" lang="en-US" sz="16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tute of limitations extended from three to five years for NET offenses and criminal not civil</a:t>
            </a:r>
            <a:endParaRPr b="0" lang="en-US" sz="1600" spc="-1" strike="noStrike">
              <a:solidFill>
                <a:srgbClr val="000000"/>
              </a:solidFill>
              <a:latin typeface="Verdana"/>
            </a:endParaRPr>
          </a:p>
        </p:txBody>
      </p:sp>
      <p:pic>
        <p:nvPicPr>
          <p:cNvPr id="235"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Pro and Con</a:t>
            </a:r>
            <a:endParaRPr b="0" lang="en-US" sz="4400" spc="-1" strike="noStrike">
              <a:solidFill>
                <a:srgbClr val="003366"/>
              </a:solidFill>
              <a:latin typeface="Verdana"/>
            </a:endParaRPr>
          </a:p>
        </p:txBody>
      </p:sp>
      <p:sp>
        <p:nvSpPr>
          <p:cNvPr id="237"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guments</a:t>
            </a:r>
            <a:endParaRPr b="0" lang="en-US" sz="18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a:t>
            </a:r>
            <a:endParaRPr b="0" lang="en-US" sz="16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are guaranteed personal-use reproduction rights of both analog/digital sources and recording formats. Big5 infringe upon your rights.</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make song mixes under the ARA as long as they are not for commercial gain.</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trade recordings of non-copyrighted material as long as it is not for commercial gain.</a:t>
            </a:r>
            <a:endParaRPr b="0" lang="en-US" sz="14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a:t>
            </a:r>
            <a:endParaRPr b="0" lang="en-US" sz="16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a:t>
            </a:r>
            <a:r>
              <a:rPr b="0" i="1" lang="en-US" sz="1400" spc="-1" strike="noStrike">
                <a:solidFill>
                  <a:srgbClr val="000000"/>
                </a:solidFill>
                <a:latin typeface="Verdana"/>
              </a:rPr>
              <a:t>not</a:t>
            </a:r>
            <a:r>
              <a:rPr b="0" lang="en-US" sz="1400" spc="-1" strike="noStrike">
                <a:solidFill>
                  <a:srgbClr val="000000"/>
                </a:solidFill>
                <a:latin typeface="Verdana"/>
              </a:rPr>
              <a:t> produce devices that disassemble or reverse-engineer protection technologies for media</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a:t>
            </a:r>
            <a:r>
              <a:rPr b="0" i="1" lang="en-US" sz="1400" spc="-1" strike="noStrike">
                <a:solidFill>
                  <a:srgbClr val="000000"/>
                </a:solidFill>
                <a:latin typeface="Verdana"/>
              </a:rPr>
              <a:t>not</a:t>
            </a:r>
            <a:r>
              <a:rPr b="0" lang="en-US" sz="1400" spc="-1" strike="noStrike">
                <a:solidFill>
                  <a:srgbClr val="000000"/>
                </a:solidFill>
                <a:latin typeface="Verdana"/>
              </a:rPr>
              <a:t> distribute copyrighted works for commercial gain (publishing rights controlled by ASCAP, usually)</a:t>
            </a:r>
            <a:endParaRPr b="0" lang="en-US" sz="1400" spc="-1" strike="noStrike">
              <a:solidFill>
                <a:srgbClr val="000000"/>
              </a:solidFill>
              <a:latin typeface="Verdana"/>
            </a:endParaRPr>
          </a:p>
        </p:txBody>
      </p:sp>
      <p:pic>
        <p:nvPicPr>
          <p:cNvPr id="238" name="logo_7C869C" descr=""/>
          <p:cNvPicPr/>
          <p:nvPr/>
        </p:nvPicPr>
        <p:blipFill>
          <a:blip r:embed="rId1"/>
          <a:stretch/>
        </p:blipFill>
        <p:spPr>
          <a:xfrm>
            <a:off x="1066680" y="2209680"/>
            <a:ext cx="1897200" cy="503280"/>
          </a:xfrm>
          <a:prstGeom prst="rect">
            <a:avLst/>
          </a:prstGeom>
          <a:ln w="0">
            <a:noFill/>
          </a:ln>
        </p:spPr>
      </p:pic>
      <p:pic>
        <p:nvPicPr>
          <p:cNvPr id="239" name="kazaa_logo" descr="KaZaA">
            <a:hlinkClick r:id="rId2"/>
          </p:cNvPr>
          <p:cNvPicPr/>
          <p:nvPr/>
        </p:nvPicPr>
        <p:blipFill>
          <a:blip r:embed="rId3"/>
          <a:stretch/>
        </p:blipFill>
        <p:spPr>
          <a:xfrm>
            <a:off x="1295280" y="3124080"/>
            <a:ext cx="1336680" cy="685800"/>
          </a:xfrm>
          <a:prstGeom prst="rect">
            <a:avLst/>
          </a:prstGeom>
          <a:ln w="0">
            <a:noFill/>
          </a:ln>
        </p:spPr>
      </p:pic>
      <p:pic>
        <p:nvPicPr>
          <p:cNvPr id="240" name="bearshareboxsm" descr="Purchase BearShare Pro">
            <a:hlinkClick r:id="rId4"/>
          </p:cNvPr>
          <p:cNvPicPr/>
          <p:nvPr/>
        </p:nvPicPr>
        <p:blipFill>
          <a:blip r:embed="rId5"/>
          <a:stretch/>
        </p:blipFill>
        <p:spPr>
          <a:xfrm>
            <a:off x="1143000" y="4084560"/>
            <a:ext cx="172548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1</a:t>
            </a:r>
            <a:endParaRPr b="0" lang="en-US" sz="4400" spc="-1" strike="noStrike">
              <a:solidFill>
                <a:srgbClr val="003366"/>
              </a:solidFill>
              <a:latin typeface="Verdana"/>
            </a:endParaRPr>
          </a:p>
        </p:txBody>
      </p:sp>
      <p:sp>
        <p:nvSpPr>
          <p:cNvPr id="242"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ics of media format crazines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1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2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pic>
        <p:nvPicPr>
          <p:cNvPr id="243" name="gamepass100052020022113" descr="Games Freedom Pass...NO Extended Viewing Fees for 30 days!">
            <a:hlinkClick r:id="rId1"/>
          </p:cNvPr>
          <p:cNvPicPr/>
          <p:nvPr/>
        </p:nvPicPr>
        <p:blipFill>
          <a:blip r:embed="rId2"/>
          <a:stretch/>
        </p:blipFill>
        <p:spPr>
          <a:xfrm>
            <a:off x="990720" y="2438280"/>
            <a:ext cx="3371760" cy="1143000"/>
          </a:xfrm>
          <a:prstGeom prst="rect">
            <a:avLst/>
          </a:prstGeom>
          <a:ln w="0">
            <a:noFill/>
          </a:ln>
        </p:spPr>
      </p:pic>
      <p:pic>
        <p:nvPicPr>
          <p:cNvPr id="244" name="logo" descr="Get Any Game Monitor (SM)">
            <a:hlinkClick r:id="rId3"/>
          </p:cNvPr>
          <p:cNvPicPr/>
          <p:nvPr/>
        </p:nvPicPr>
        <p:blipFill>
          <a:blip r:embed="rId4"/>
          <a:stretch/>
        </p:blipFill>
        <p:spPr>
          <a:xfrm>
            <a:off x="914400" y="4038480"/>
            <a:ext cx="3600360" cy="1497240"/>
          </a:xfrm>
          <a:prstGeom prst="rect">
            <a:avLst/>
          </a:prstGeom>
          <a:ln w="0">
            <a:noFill/>
          </a:ln>
        </p:spPr>
      </p:pic>
      <p:sp>
        <p:nvSpPr>
          <p:cNvPr id="245" name=""/>
          <p:cNvSpPr/>
          <p:nvPr/>
        </p:nvSpPr>
        <p:spPr>
          <a:xfrm>
            <a:off x="8380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getanygam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2</a:t>
            </a:r>
            <a:endParaRPr b="0" lang="en-US" sz="4400" spc="-1" strike="noStrike">
              <a:solidFill>
                <a:srgbClr val="003366"/>
              </a:solidFill>
              <a:latin typeface="Verdana"/>
            </a:endParaRPr>
          </a:p>
        </p:txBody>
      </p:sp>
      <p:sp>
        <p:nvSpPr>
          <p:cNvPr id="24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ics of media format craziness</a:t>
            </a:r>
            <a:endParaRPr b="0" lang="en-US" sz="28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video games are not produced according to PC-readable file systems (NTFS, etc.) but instead use uncommon sector sizes, boot blocks/code or use non-standard structure to obscure the contents</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re rendered unreadable by CD-R/RW</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 file systems are poorly-documented or protected by NDAs, applied in manufacturing, patented (GD-ROM)</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ey have to be shared with someone to produce titles for the consoles!</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utilize key exchange, others encyrp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7T08:10:49Z</dcterms:created>
  <dc:creator>Smith</dc:creator>
  <dc:description/>
  <dc:language>en-US</dc:language>
  <cp:lastModifiedBy>Smith</cp:lastModifiedBy>
  <dcterms:modified xsi:type="dcterms:W3CDTF">2002-07-10T20:43:48Z</dcterms:modified>
  <cp:revision>666</cp:revision>
  <dc:subject/>
  <dc:title>Palm Data Security</dc:title>
</cp:coreProperties>
</file>