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1.gif" ContentType="image/gif"/>
  <Override PartName="/ppt/media/image6.png" ContentType="image/png"/>
  <Override PartName="/ppt/media/image12.jpeg" ContentType="image/jpeg"/>
  <Override PartName="/ppt/media/image7.png" ContentType="image/png"/>
  <Override PartName="/ppt/media/image8.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EF331-EF96-4994-8473-C18942960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245E9-6C98-436F-BEFE-AD6EB5DD9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0FDA9-E63C-491C-B89A-36490C53A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6E806-5DCD-4CDD-A476-AF1142402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AC958-167A-4564-88F0-A1CC923B6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053DE-7F6F-494F-9035-17D6FE269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39753-D123-4518-B613-80B40865E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E80AE-791D-45E8-ADBD-6D2C21C2F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27D9C-5244-43D5-AA29-A3E03E689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1D240-EA38-4525-951C-1DC11C60A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51130-8EA0-45F3-A0AF-47E60394F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72D45-7B22-4967-982D-3369763F7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A50A0-D9D0-4CA2-B08C-D784EF30C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93DD3-1E12-4572-AB36-251383635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46C92-EE49-47C0-9B6D-8E06E6051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5F898-3D8F-4BC1-B542-084D75B2E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C52FE-D768-44C8-807D-B938328D3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096F9-587A-459B-84CA-130DFBC40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66777-1FEE-49B5-9217-EDE20969D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78A37-9590-4DF9-959A-B1814379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B6172-85E3-43A1-8758-4F22B6552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39A8D-BA4A-443A-BFBB-84F9CCBDB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42015-845E-44C5-81C2-2D229F689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F2186-427F-4333-B477-797F3862C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28DFD-FA7B-40A9-8FEE-187376B68983}"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7EADA-7FEC-420B-881B-0D9F215EA4AC}"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kazaa.com/index.htm" TargetMode="External"/><Relationship Id="rId3" Type="http://schemas.openxmlformats.org/officeDocument/2006/relationships/image" Target="../media/image7.png"/><Relationship Id="rId4" Type="http://schemas.openxmlformats.org/officeDocument/2006/relationships/hyperlink" Target="http://download.bearshare.com/BSPROINSTALL.exe"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blockbuster.com/bb/article/details/0,7413,ART-670,00.html?" TargetMode="External"/><Relationship Id="rId2" Type="http://schemas.openxmlformats.org/officeDocument/2006/relationships/image" Target="../media/image9.jpeg"/><Relationship Id="rId3" Type="http://schemas.openxmlformats.org/officeDocument/2006/relationships/hyperlink" Target="http://laptop.goodmonk.local/index.php?SID=get3d0719b850d0c"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sumer Media Protections (CMP)</a:t>
            </a:r>
            <a:endParaRPr b="0" lang="en-US" sz="4400" spc="-1" strike="noStrike">
              <a:solidFill>
                <a:srgbClr val="003366"/>
              </a:solidFill>
              <a:latin typeface="Verdana"/>
            </a:endParaRPr>
          </a:p>
        </p:txBody>
      </p:sp>
      <p:sp>
        <p:nvSpPr>
          <p:cNvPr id="210"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Think About</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anyone burned a CD for a friend? Did they purchase that CD afterward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DVD player hooked to your television via VIDEO, S-VIDEO or Component?</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you own a copy of The Patriot DVD? (RCE)</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you ever modified or had modified a game console (PS1)?</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long does a US Copyright last? (post-1978=death+70yrs, pre-1978=95yr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Link on CD, (R)=Resource on CD</a:t>
            </a:r>
            <a:endParaRPr b="0" lang="en-US" sz="1600" spc="-1" strike="noStrike">
              <a:solidFill>
                <a:srgbClr val="000000"/>
              </a:solidFill>
              <a:latin typeface="Verdana"/>
            </a:endParaRPr>
          </a:p>
        </p:txBody>
      </p:sp>
      <p:pic>
        <p:nvPicPr>
          <p:cNvPr id="211"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2" name="" descr=""/>
          <p:cNvPicPr/>
          <p:nvPr/>
        </p:nvPicPr>
        <p:blipFill>
          <a:blip r:embed="rId3"/>
          <a:stretch/>
        </p:blipFill>
        <p:spPr>
          <a:xfrm>
            <a:off x="1295280" y="2819520"/>
            <a:ext cx="1190880" cy="760320"/>
          </a:xfrm>
          <a:prstGeom prst="rect">
            <a:avLst/>
          </a:prstGeom>
          <a:ln w="0">
            <a:noFill/>
          </a:ln>
        </p:spPr>
      </p:pic>
      <p:pic>
        <p:nvPicPr>
          <p:cNvPr id="213" name="hdr_logo_sony" descr="Sony"/>
          <p:cNvPicPr/>
          <p:nvPr/>
        </p:nvPicPr>
        <p:blipFill>
          <a:blip r:embed="rId4"/>
          <a:stretch/>
        </p:blipFill>
        <p:spPr>
          <a:xfrm>
            <a:off x="1295280" y="3809880"/>
            <a:ext cx="1154160" cy="594000"/>
          </a:xfrm>
          <a:prstGeom prst="rect">
            <a:avLst/>
          </a:prstGeom>
          <a:ln w="0">
            <a:noFill/>
          </a:ln>
        </p:spPr>
      </p:pic>
      <p:pic>
        <p:nvPicPr>
          <p:cNvPr id="214"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3</a:t>
            </a:r>
            <a:endParaRPr b="0" lang="en-US" sz="44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region and media-based key during boot and refuses to loa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LibCrypt included which detects a ModChip (authentication bypass) and refuses to load, developed by Son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custom CMP including extra files, unreadable data or false headers preventing many PC apps’ duplication suc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4</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DVD-ROM,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the region and media-based key, corrupts game if fail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Chips come in different versions for region-free/specific and key-dis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y has successfully prosecuted ModChip manufacturers in U.S. using DCMA threa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5</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a restrictions: DVD-ROM, CD-ROM and key-encrypted</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tender and Enigmah ModChips: play import and backup games, disable DVD MV and region-encoding, allow custom code at boot</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ent push to get Linux running on an Xbox, $200,000 prize, first program developed w/o Xbox SDK</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by MIT Computer Scientist of Xbox CMP reveals weaknesses and bypass </a:t>
            </a:r>
            <a:r>
              <a:rPr b="0" i="1" lang="en-US" sz="2000" spc="-1" strike="noStrike">
                <a:solidFill>
                  <a:srgbClr val="000000"/>
                </a:solidFill>
                <a:latin typeface="Verdana"/>
              </a:rPr>
              <a:t>(R1)</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Microsoft sacrificed bus speed for CMP complexity, performance h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6</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 / Tools</a:t>
            </a:r>
            <a:endParaRPr b="0" lang="en-US" sz="2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Console DVD playback: pass your analog output through a video filter (Sima Color Corrector, Zorilla Video Filt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1 games: use the proper settings in Nero or try a RAW-mode copier such as CloneCD </a:t>
            </a:r>
            <a:r>
              <a:rPr b="0" i="1" lang="en-US" sz="1800" spc="-1" strike="noStrike">
                <a:solidFill>
                  <a:srgbClr val="000000"/>
                </a:solidFill>
                <a:latin typeface="Verdana"/>
              </a:rPr>
              <a:t>(R2)</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2 or Xbox games: use a DVD ripp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1 CMP bypass: bootable CD,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2 CMP bypass: solder/no-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Xbox CMP bypass: 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horizon: Xbox hard-drive game storage/loader </a:t>
            </a:r>
            <a:r>
              <a:rPr b="0" i="1" lang="en-US" sz="1800" spc="-1" strike="noStrike">
                <a:solidFill>
                  <a:srgbClr val="000000"/>
                </a:solidFill>
                <a:latin typeface="Verdana"/>
              </a:rPr>
              <a:t>(L1)</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box custom software such as a Media Player, DivX, et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7</a:t>
            </a:r>
            <a:endParaRPr b="0" lang="en-US" sz="44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Copying A PS1 Game</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with built-in CD-RW, PlayStation 1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Nero settings to properly read/write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boot-loader optio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ModChip op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1</a:t>
            </a:r>
            <a:endParaRPr b="0" lang="en-US" sz="4400" spc="-1" strike="noStrike">
              <a:solidFill>
                <a:srgbClr val="003366"/>
              </a:solidFill>
              <a:latin typeface="Verdana"/>
            </a:endParaRPr>
          </a:p>
        </p:txBody>
      </p:sp>
      <p:sp>
        <p:nvSpPr>
          <p:cNvPr id="259"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 (VHS, DVD)</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60" name="home_center_image" descr=""/>
          <p:cNvPicPr/>
          <p:nvPr/>
        </p:nvPicPr>
        <p:blipFill>
          <a:blip r:embed="rId1"/>
          <a:stretch/>
        </p:blipFill>
        <p:spPr>
          <a:xfrm>
            <a:off x="822240" y="2209680"/>
            <a:ext cx="3978360" cy="379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2</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crovision was founded in February of 1983 in sunny California and is publicly-traded on NASDAQ</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licenses their technology to DVD, Semiconductor, Set-top Box, PVR, PPV, VHS and Replicators (DVD-R)</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technology can be applied internationally to all video standards (PAL/NTSC)</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sued by Verance for patent infringements on video signal protection and watermarking</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ay, Warner Bros. released </a:t>
            </a:r>
            <a:r>
              <a:rPr b="0" i="1" lang="en-US" sz="2000" spc="-1" strike="noStrike">
                <a:solidFill>
                  <a:srgbClr val="000000"/>
                </a:solidFill>
                <a:latin typeface="Verdana"/>
              </a:rPr>
              <a:t>Harry Potter</a:t>
            </a:r>
            <a:r>
              <a:rPr b="0" lang="en-US" sz="2000" spc="-1" strike="noStrike">
                <a:solidFill>
                  <a:srgbClr val="000000"/>
                </a:solidFill>
                <a:latin typeface="Verdana"/>
              </a:rPr>
              <a:t> without MV in the U.S./U.K., the first commercially-released MV-free DVD ever. MV changed their licensing to require 100% coverage or an external label from now 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3</a:t>
            </a:r>
            <a:endParaRPr b="0" lang="en-US" sz="4400" spc="-1" strike="noStrike">
              <a:solidFill>
                <a:srgbClr val="003366"/>
              </a:solidFill>
              <a:latin typeface="Verdana"/>
            </a:endParaRPr>
          </a:p>
        </p:txBody>
      </p:sp>
      <p:sp>
        <p:nvSpPr>
          <p:cNvPr id="2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adds carefully timed electronic pulses to a video signal during duplication that alternate high/lo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through-degradation (bad!): TVs tolerate while VCRs fail to keep sync</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s a VCR’s automatic gain control (AGC) causing banding and dropout</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tale signs: VHS tapes that alternate light-to-dark at the top, DVD-to-VCR recording problems (sync, b&amp;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amily videos erode and trigger M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4</a:t>
            </a: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0 million videocassettes are MV-protect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s may include Macrovision and/or Content Scrambling System (CS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S uses a secret key exchange to ensure that DVD video and audio (MPEG2) are unencrypted by the player</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is “triggered-distortion” and is part of the DVD Video spec, license and recommend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5</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 analog outs: VIDEO and S-VIDEO MV-enabled…by the video processo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Radeon and All-In-Wonder cards: video processor-embedded, forced into a license by MV after abuses, contains MV on inputs and output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inputs driver-limited to 10-30 seconds of recording, produces stalling and skipping</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outputs produce MV signal on all recording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vidia and S3 planning future mod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See No Evil, Hear No Evil, Speak No Evil</a:t>
            </a:r>
            <a:endParaRPr b="0" lang="en-US" sz="4400" spc="-1" strike="noStrike">
              <a:solidFill>
                <a:srgbClr val="003366"/>
              </a:solidFill>
              <a:latin typeface="Verdana"/>
            </a:endParaRPr>
          </a:p>
        </p:txBody>
      </p:sp>
      <p:sp>
        <p:nvSpPr>
          <p:cNvPr id="216"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e’re Going To Talk About</a:t>
            </a:r>
            <a:endParaRPr b="0" lang="en-US" sz="18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isting CMPs in video games, video and audio</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s and arguments pro/con</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game CMPs including Playstation 1, Playstation 2 and Microsoft’s Xbox</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game CMP (PS1),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CMPs including VHS, DVD and graphics car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CMP (Macrovision),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depth: existing audio CMPs in C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n audio CMP (key2audio),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MP Realities and Rights</a:t>
            </a:r>
            <a:endParaRPr b="0" lang="en-US" sz="1600" spc="-1" strike="noStrike">
              <a:solidFill>
                <a:srgbClr val="000000"/>
              </a:solidFill>
              <a:latin typeface="Verdana"/>
            </a:endParaRPr>
          </a:p>
        </p:txBody>
      </p:sp>
      <p:pic>
        <p:nvPicPr>
          <p:cNvPr id="217"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8" name="" descr=""/>
          <p:cNvPicPr/>
          <p:nvPr/>
        </p:nvPicPr>
        <p:blipFill>
          <a:blip r:embed="rId3"/>
          <a:stretch/>
        </p:blipFill>
        <p:spPr>
          <a:xfrm>
            <a:off x="1295280" y="2819520"/>
            <a:ext cx="1190880" cy="760320"/>
          </a:xfrm>
          <a:prstGeom prst="rect">
            <a:avLst/>
          </a:prstGeom>
          <a:ln w="0">
            <a:noFill/>
          </a:ln>
        </p:spPr>
      </p:pic>
      <p:pic>
        <p:nvPicPr>
          <p:cNvPr id="219" name="hdr_logo_sony" descr="Sony"/>
          <p:cNvPicPr/>
          <p:nvPr/>
        </p:nvPicPr>
        <p:blipFill>
          <a:blip r:embed="rId4"/>
          <a:stretch/>
        </p:blipFill>
        <p:spPr>
          <a:xfrm>
            <a:off x="1295280" y="3809880"/>
            <a:ext cx="1154160" cy="594000"/>
          </a:xfrm>
          <a:prstGeom prst="rect">
            <a:avLst/>
          </a:prstGeom>
          <a:ln w="0">
            <a:noFill/>
          </a:ln>
        </p:spPr>
      </p:pic>
      <p:pic>
        <p:nvPicPr>
          <p:cNvPr id="220"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6</a:t>
            </a: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VHS, S-VHS or DVD: pass your analog output through a video filter (Sima Color Corrector, Zorilla Video Filter) or non-Macrovision inhibited monitor (Canopus ADVC-100, even has Firewire!)</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ardware DVD: purchase a hackable or modifiable DVD player, list at VCDHelp </a:t>
            </a:r>
            <a:r>
              <a:rPr b="0" i="1" lang="en-US" sz="1600" spc="-1" strike="noStrike">
                <a:solidFill>
                  <a:srgbClr val="000000"/>
                </a:solidFill>
                <a:latin typeface="Verdana"/>
              </a:rPr>
              <a:t>(L2)</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oftware DVD: simultaneously run an application such as Remote Selector Tool </a:t>
            </a:r>
            <a:r>
              <a:rPr b="0" i="1" lang="en-US" sz="1600" spc="-1" strike="noStrike">
                <a:solidFill>
                  <a:srgbClr val="000000"/>
                </a:solidFill>
                <a:latin typeface="Verdana"/>
              </a:rPr>
              <a:t>(L3)</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VD burners: rip your DVD to a file on your HD and strip out MV w/ SmartRipper, etc.</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TI cards: disable MV with a patch from Doom9 </a:t>
            </a:r>
            <a:r>
              <a:rPr b="0" i="1" lang="en-US" sz="1600" spc="-1" strike="noStrike">
                <a:solidFill>
                  <a:srgbClr val="000000"/>
                </a:solidFill>
                <a:latin typeface="Verdana"/>
              </a:rPr>
              <a:t>(L4)</a:t>
            </a:r>
            <a:r>
              <a:rPr b="0" lang="en-US" sz="1600" spc="-1" strike="noStrike">
                <a:solidFill>
                  <a:srgbClr val="000000"/>
                </a:solidFill>
                <a:latin typeface="Verdana"/>
              </a:rPr>
              <a:t>, also contains tutorials and app links</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nalog video capture: use alternative MV-free capture cards like Hauppauge WinTV, Pinnacle Studio AV or Dazz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7</a:t>
            </a: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mo: MV-free Video Capture</a:t>
            </a:r>
            <a:endParaRPr b="0" lang="en-US" sz="36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Toshiba laptop, DVD player, ADS Firewire (Cardbus), Canopus ADVC-100</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raw</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notice MV degradation</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undocumented method to remove Macrovision detection/pass-through on Canopus (Input Select w/ color bars)</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MV-free</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so fresh and so clean, cle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1</a:t>
            </a:r>
            <a:endParaRPr b="0" lang="en-US" sz="4400" spc="-1" strike="noStrike">
              <a:solidFill>
                <a:srgbClr val="003366"/>
              </a:solidFill>
              <a:latin typeface="Verdana"/>
            </a:endParaRPr>
          </a:p>
        </p:txBody>
      </p:sp>
      <p:sp>
        <p:nvSpPr>
          <p:cNvPr id="274"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grpSp>
        <p:nvGrpSpPr>
          <p:cNvPr id="275" name=""/>
          <p:cNvGrpSpPr/>
          <p:nvPr/>
        </p:nvGrpSpPr>
        <p:grpSpPr>
          <a:xfrm>
            <a:off x="0" y="2435400"/>
            <a:ext cx="9144000" cy="1950840"/>
            <a:chOff x="0" y="2435400"/>
            <a:chExt cx="9144000" cy="1950840"/>
          </a:xfrm>
        </p:grpSpPr>
        <p:sp>
          <p:nvSpPr>
            <p:cNvPr id="276" name=""/>
            <p:cNvSpPr/>
            <p:nvPr/>
          </p:nvSpPr>
          <p:spPr>
            <a:xfrm>
              <a:off x="0" y="2435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77" name=""/>
            <p:cNvSpPr/>
            <p:nvPr/>
          </p:nvSpPr>
          <p:spPr>
            <a:xfrm>
              <a:off x="0" y="2435400"/>
              <a:ext cx="9144000" cy="19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Verdana"/>
                </a:rPr>
                <a:t>  </a:t>
              </a:r>
              <a:r>
                <a:rPr b="0" lang="en-US" sz="12200" spc="-1" strike="noStrike">
                  <a:solidFill>
                    <a:srgbClr val="003399"/>
                  </a:solidFill>
                  <a:latin typeface="Verdana"/>
                </a:rPr>
                <a:t> </a:t>
              </a:r>
              <a:r>
                <a:rPr b="0" lang="en-US" sz="1000" spc="-1" strike="noStrike">
                  <a:solidFill>
                    <a:srgbClr val="003399"/>
                  </a:solidFill>
                  <a:latin typeface="Verdana"/>
                </a:rPr>
                <a:t>                                          </a:t>
              </a:r>
              <a:endParaRPr b="0" lang="en-US" sz="1000" spc="-1" strike="noStrike">
                <a:solidFill>
                  <a:srgbClr val="000000"/>
                </a:solidFill>
                <a:latin typeface="Arial"/>
              </a:endParaRPr>
            </a:p>
          </p:txBody>
        </p:sp>
      </p:grpSp>
      <p:pic>
        <p:nvPicPr>
          <p:cNvPr id="278" name="00459091" descr="Cover Image"/>
          <p:cNvPicPr/>
          <p:nvPr/>
        </p:nvPicPr>
        <p:blipFill>
          <a:blip r:embed="rId1"/>
          <a:stretch/>
        </p:blipFill>
        <p:spPr>
          <a:xfrm>
            <a:off x="1600200" y="2057400"/>
            <a:ext cx="1943280" cy="1943280"/>
          </a:xfrm>
          <a:prstGeom prst="rect">
            <a:avLst/>
          </a:prstGeom>
          <a:ln w="0">
            <a:noFill/>
          </a:ln>
        </p:spPr>
      </p:pic>
      <p:pic>
        <p:nvPicPr>
          <p:cNvPr id="279" name="00395393" descr="Cover Image"/>
          <p:cNvPicPr/>
          <p:nvPr/>
        </p:nvPicPr>
        <p:blipFill>
          <a:blip r:embed="rId2"/>
          <a:stretch/>
        </p:blipFill>
        <p:spPr>
          <a:xfrm>
            <a:off x="1600200" y="4343400"/>
            <a:ext cx="1943280" cy="19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2</a:t>
            </a: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U.S. CD released with copy protection was Charley Pride’s </a:t>
            </a:r>
            <a:r>
              <a:rPr b="0" i="1" lang="en-US" sz="2000" spc="-1" strike="noStrike">
                <a:solidFill>
                  <a:srgbClr val="000000"/>
                </a:solidFill>
                <a:latin typeface="Verdana"/>
              </a:rPr>
              <a:t>Tribute To Jim Reeves</a:t>
            </a:r>
            <a:r>
              <a:rPr b="0" lang="en-US" sz="2000" spc="-1" strike="noStrike">
                <a:solidFill>
                  <a:srgbClr val="000000"/>
                </a:solidFill>
                <a:latin typeface="Verdana"/>
              </a:rPr>
              <a:t> by Fahrenheit Entertainment, a lawsuit in California resulted</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Jupiter Communications, only 2% of CD buyers rip to MP3 and publish 1</a:t>
            </a:r>
            <a:r>
              <a:rPr b="0" lang="en-US" sz="2000" spc="-1" strike="noStrike" baseline="30000">
                <a:solidFill>
                  <a:srgbClr val="000000"/>
                </a:solidFill>
                <a:latin typeface="Verdana"/>
              </a:rPr>
              <a:t>st</a:t>
            </a:r>
            <a:r>
              <a:rPr b="0" lang="en-US" sz="2000" spc="-1" strike="noStrike">
                <a:solidFill>
                  <a:srgbClr val="000000"/>
                </a:solidFill>
                <a:latin typeface="Verdana"/>
              </a:rPr>
              <a:t>-generation material to file-sharing services</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hough Eminem’s </a:t>
            </a:r>
            <a:r>
              <a:rPr b="0" i="1" lang="en-US" sz="2000" spc="-1" strike="noStrike">
                <a:solidFill>
                  <a:srgbClr val="000000"/>
                </a:solidFill>
                <a:latin typeface="Verdana"/>
              </a:rPr>
              <a:t>The Eminem Show</a:t>
            </a:r>
            <a:r>
              <a:rPr b="0" lang="en-US" sz="2000" spc="-1" strike="noStrike">
                <a:solidFill>
                  <a:srgbClr val="000000"/>
                </a:solidFill>
                <a:latin typeface="Verdana"/>
              </a:rPr>
              <a:t> was the most heavily pirated and swapped CD ever, it still sold 284,000 in three days and 1.3 million in week one</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g5 music distribution companies (Universal, Sony, Warner, BMG and EMI) control 90% of all music</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ny estimates, six million CMP CDs have been slipstreamed into U.S. retail </a:t>
            </a:r>
            <a:r>
              <a:rPr b="0" lang="en-US" sz="2000" spc="-1" strike="noStrike" u="sng">
                <a:solidFill>
                  <a:srgbClr val="000000"/>
                </a:solidFill>
                <a:uFillTx/>
                <a:latin typeface="Verdana"/>
              </a:rPr>
              <a:t>without warning lab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3</a:t>
            </a: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 </a:t>
            </a:r>
            <a:r>
              <a:rPr b="0" i="1" lang="en-US" sz="2800" spc="-1" strike="noStrike">
                <a:solidFill>
                  <a:srgbClr val="000000"/>
                </a:solidFill>
                <a:latin typeface="Verdana"/>
              </a:rPr>
              <a:t>(R3+R4)</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d for $20 million+ by Macrovision and TTR, introduced 2001, Big5 looking at adding it 2002</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2 million SafeAudio CMP CDs are in circulation including N’Sync </a:t>
            </a:r>
            <a:r>
              <a:rPr b="0" i="1" lang="en-US" sz="2000" spc="-1" strike="noStrike">
                <a:solidFill>
                  <a:srgbClr val="000000"/>
                </a:solidFill>
                <a:latin typeface="Verdana"/>
              </a:rPr>
              <a:t>Celebrity</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different components: coding protection, timing protection and hiding audio tracks from PC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by exploiting the poor error correction capabilities of PC CD drives, v3 works at the music data’s bit level by creating slight, random bit corruptions which cause pops and brownout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Audio coding protection (structural) is rated 99% readable in consumer audio de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4</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for $40 million+ by Sony, introduced 2001, Sony labels and license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17 million key2audio CMP CDs are in circulation including Celine Dion’s lates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 by placing a special hidden signature and junk data files on the outside of CD during manufacturing, CD-R/RW unread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rtion of key2audio CMP CD conforms to Red Book standard, unchanged stre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5</a:t>
            </a:r>
            <a:endParaRPr b="0" lang="en-US" sz="4400" spc="-1" strike="noStrike">
              <a:solidFill>
                <a:srgbClr val="003366"/>
              </a:solidFill>
              <a:latin typeface="Verdana"/>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yze which audio CMP is used via ClonyXXL </a:t>
            </a:r>
            <a:r>
              <a:rPr b="0" i="1" lang="en-US" sz="1600" spc="-1" strike="noStrike">
                <a:solidFill>
                  <a:srgbClr val="000000"/>
                </a:solidFill>
                <a:latin typeface="Verdana"/>
              </a:rPr>
              <a:t>(R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y a RAW-mode CD-R/RW such as Lite-On 16X+, verify support via CloneCD at </a:t>
            </a:r>
            <a:r>
              <a:rPr b="0" i="1" lang="en-US" sz="1600" spc="-1" strike="noStrike">
                <a:solidFill>
                  <a:srgbClr val="000000"/>
                </a:solidFill>
                <a:latin typeface="Verdana"/>
              </a:rPr>
              <a:t>(L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cover specifications and burning techniques for CMPs at CD Media World </a:t>
            </a:r>
            <a:r>
              <a:rPr b="0" i="1" lang="en-US" sz="1600" spc="-1" strike="noStrike">
                <a:solidFill>
                  <a:srgbClr val="000000"/>
                </a:solidFill>
                <a:latin typeface="Verdana"/>
              </a:rPr>
              <a:t>(L6)</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afeAudio CDs: use analog-to-digital rip trick below or for Windows 9X use the alternate cdfs.vxd </a:t>
            </a:r>
            <a:r>
              <a:rPr b="0" i="1" lang="en-US" sz="1600" spc="-1" strike="noStrike">
                <a:solidFill>
                  <a:srgbClr val="000000"/>
                </a:solidFill>
                <a:latin typeface="Verdana"/>
              </a:rPr>
              <a:t>(R6)</a:t>
            </a:r>
            <a:r>
              <a:rPr b="0" lang="en-US" sz="1600" spc="-1" strike="noStrike">
                <a:solidFill>
                  <a:srgbClr val="000000"/>
                </a:solidFill>
                <a:latin typeface="Verdana"/>
              </a:rPr>
              <a:t> driver which shows .cda tracks as .wav files, drag-and-drop</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Key2Audio CDs: employ the black marker method, use an opaque, permanent marker to draw a 1/4 –inch ring around the outside of your CD and voila! Play it and burn it.</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og-to-digital: patch line-out to line-in (RadioShack), record wav, split into tracks, convert to MP3 using MusicMatch</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an MP3 recording device that accepts line-in such as the PoGo RipFlash </a:t>
            </a:r>
            <a:r>
              <a:rPr b="0" i="1" lang="en-US" sz="1600" spc="-1" strike="noStrike">
                <a:solidFill>
                  <a:srgbClr val="000000"/>
                </a:solidFill>
                <a:latin typeface="Verdana"/>
              </a:rPr>
              <a:t>(L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6</a:t>
            </a:r>
            <a:endParaRPr b="0" lang="en-US" sz="4400" spc="-1" strike="noStrike">
              <a:solidFill>
                <a:srgbClr val="003366"/>
              </a:solidFill>
              <a:latin typeface="Verdana"/>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Analog-&gt;WAV-&gt;MP3</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CD Player, patch cord, Michael Jackson CD (used, of cours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play in PC. Won’t even read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py protection using ClonyXXL.</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p to WAV via line-i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t to MP3.</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y result. Clean copy.</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TCHA: Beware of recording levels</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Use SPDIF I/O for pure digital copy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1</a:t>
            </a:r>
            <a:endParaRPr b="0" lang="en-US" sz="4400" spc="-1" strike="noStrike">
              <a:solidFill>
                <a:srgbClr val="003366"/>
              </a:solidFill>
              <a:latin typeface="Verdana"/>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Media Protections (CMP)</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Games: PS1, PS2, Xbox employ media format tricks and techniqu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ugly, bad Macrovision in software and through hard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o: SafeAudio, Key2Audio work through structural modification and audio corru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2</a:t>
            </a:r>
            <a:endParaRPr b="0" lang="en-US" sz="4400" spc="-1" strike="noStrike">
              <a:solidFill>
                <a:srgbClr val="003366"/>
              </a:solidFill>
              <a:latin typeface="Verdana"/>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Realities</a:t>
            </a:r>
            <a:endParaRPr b="0" lang="en-US" sz="28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digitally-created will be bypassed</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e protection would remove the incentive (economic) of commercial gain</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right law is outdated and needs to be amended for digital technologie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s discussed provide consumers with well-defined personal-use right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men probably listen to WAV and MP3 mixed CDs behind closed do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Facts and Figures</a:t>
            </a:r>
            <a:endParaRPr b="0" lang="en-US" sz="4400" spc="-1" strike="noStrike">
              <a:solidFill>
                <a:srgbClr val="003366"/>
              </a:solidFill>
              <a:latin typeface="Verdana"/>
            </a:endParaRPr>
          </a:p>
        </p:txBody>
      </p:sp>
      <p:sp>
        <p:nvSpPr>
          <p:cNvPr id="222"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RUTH</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NING: This stuff will make you angry but at least you’ll learn enough to argue and fight effectively</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upiter Communications: Napster and other file-sharing users are 45% more likely to purchase music</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rtner Group: CD sales were up 10% each quarter while file-sharing services were operating unrestricted</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Business: 20% of DVD players sold internationally are region-fre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30% of Blockbuster game renters have pirated at least one PS1 gam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40 million DVD players will be in U.S. homes by the end of 2002, fastest adoption of a consumer device</a:t>
            </a:r>
            <a:endParaRPr b="0" lang="en-US" sz="1600" spc="-1" strike="noStrike">
              <a:solidFill>
                <a:srgbClr val="000000"/>
              </a:solidFill>
              <a:latin typeface="Verdana"/>
            </a:endParaRPr>
          </a:p>
        </p:txBody>
      </p:sp>
      <p:pic>
        <p:nvPicPr>
          <p:cNvPr id="223"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24" name="" descr=""/>
          <p:cNvPicPr/>
          <p:nvPr/>
        </p:nvPicPr>
        <p:blipFill>
          <a:blip r:embed="rId3"/>
          <a:stretch/>
        </p:blipFill>
        <p:spPr>
          <a:xfrm>
            <a:off x="1295280" y="2819520"/>
            <a:ext cx="1190880" cy="760320"/>
          </a:xfrm>
          <a:prstGeom prst="rect">
            <a:avLst/>
          </a:prstGeom>
          <a:ln w="0">
            <a:noFill/>
          </a:ln>
        </p:spPr>
      </p:pic>
      <p:pic>
        <p:nvPicPr>
          <p:cNvPr id="225" name="hdr_logo_sony" descr="Sony"/>
          <p:cNvPicPr/>
          <p:nvPr/>
        </p:nvPicPr>
        <p:blipFill>
          <a:blip r:embed="rId4"/>
          <a:stretch/>
        </p:blipFill>
        <p:spPr>
          <a:xfrm>
            <a:off x="1295280" y="3809880"/>
            <a:ext cx="1154160" cy="594000"/>
          </a:xfrm>
          <a:prstGeom prst="rect">
            <a:avLst/>
          </a:prstGeom>
          <a:ln w="0">
            <a:noFill/>
          </a:ln>
        </p:spPr>
      </p:pic>
      <p:pic>
        <p:nvPicPr>
          <p:cNvPr id="226"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3</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Media Corp.)</a:t>
            </a:r>
            <a:endParaRPr b="0" lang="en-US" sz="28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economic formula: best offer=the most accepted and successful after option</a:t>
            </a:r>
            <a:endParaRPr b="0" lang="en-US" sz="24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best offers”: </a:t>
            </a:r>
            <a:endParaRPr b="0" lang="en-US" sz="24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high-quality, high-caliber efforts that are actually good, good still sell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the price of CDs closer to real-world manufacturing and distribution cost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price and restrictions on downloadable music while broadening catalogs, micro-payments OK</a:t>
            </a:r>
            <a:endParaRPr b="0" lang="en-US" sz="20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p placing CMPs on video games, video signals or audio that degrades quality or playability, this is ANTI-CONSUM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4</a:t>
            </a:r>
            <a:endParaRPr b="0" lang="en-US" sz="4400" spc="-1" strike="noStrike">
              <a:solidFill>
                <a:srgbClr val="003366"/>
              </a:solidFill>
              <a:latin typeface="Verdana"/>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Individua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legal personal-use of consumer media by exploring protec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e anyone who will liste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rve your right to backup your expensive purchases such as DVDs and CD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se to buy CDs marked as protected (ex: “Will not play on MAC/PC”=key2audio)</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y a black Sharpie. Wear around nec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5</a:t>
            </a:r>
            <a:endParaRPr b="0" lang="en-US" sz="4400" spc="-1" strike="noStrike">
              <a:solidFill>
                <a:srgbClr val="003366"/>
              </a:solidFill>
              <a:latin typeface="Verdana"/>
            </a:endParaRPr>
          </a:p>
        </p:txBody>
      </p:sp>
      <p:sp>
        <p:nvSpPr>
          <p:cNvPr id="2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ir \CMP” on DEF CON 10 C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Presentation (PowerPoin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yXXL (fre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eCD (shar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e CDFS driver (Self-Extracting)</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FAQ &amp; Overview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paper from MIT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 shortcuts to sites ment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1</a:t>
            </a:r>
            <a:endParaRPr b="0" lang="en-US" sz="4400" spc="-1" strike="noStrike">
              <a:solidFill>
                <a:srgbClr val="003366"/>
              </a:solidFill>
              <a:latin typeface="Verdana"/>
            </a:endParaRPr>
          </a:p>
        </p:txBody>
      </p:sp>
      <p:sp>
        <p:nvSpPr>
          <p:cNvPr id="228"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udio Home Recording Act (1992)</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uaranteed consumers the right to use all analog and digital audio recording formats to make personal-use copies of CDs and other digital sources of music.”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analog/digital REC format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ects all personal-use</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fers to all current and future recording formats (CD-R/RW, MiniDisc, MemoryStick)</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ludes digital source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xes and non-copyrighted recordings OK but no $$$</a:t>
            </a:r>
            <a:endParaRPr b="0" lang="en-US" sz="1400" spc="-1" strike="noStrike">
              <a:solidFill>
                <a:srgbClr val="000000"/>
              </a:solidFill>
              <a:latin typeface="Verdana"/>
            </a:endParaRPr>
          </a:p>
        </p:txBody>
      </p:sp>
      <p:pic>
        <p:nvPicPr>
          <p:cNvPr id="229"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2</a:t>
            </a:r>
            <a:endParaRPr b="0" lang="en-US" sz="4400" spc="-1" strike="noStrike">
              <a:solidFill>
                <a:srgbClr val="003366"/>
              </a:solidFill>
              <a:latin typeface="Verdana"/>
            </a:endParaRPr>
          </a:p>
        </p:txBody>
      </p:sp>
      <p:sp>
        <p:nvSpPr>
          <p:cNvPr id="231"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igital Millennium Copyright Act (1996)</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ans the manufacture and distribution of devices designed to undermine technology used to protect copyrighted works.”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evice” is ambiguous, may refer to PDF crack, dongle, etc.</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echnology” is non-specific, could be one ASM instruction or 448-bit Blowfish-encrypted routines, simple to complex</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punish OEM manufacturers who are contracted to manufacture devices that ignore protections in favor of cost savings, etc.</a:t>
            </a:r>
            <a:endParaRPr b="0" lang="en-US" sz="1400" spc="-1" strike="noStrike">
              <a:solidFill>
                <a:srgbClr val="000000"/>
              </a:solidFill>
              <a:latin typeface="Verdana"/>
            </a:endParaRPr>
          </a:p>
        </p:txBody>
      </p:sp>
      <p:pic>
        <p:nvPicPr>
          <p:cNvPr id="232"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3</a:t>
            </a:r>
            <a:endParaRPr b="0" lang="en-US" sz="4400" spc="-1" strike="noStrike">
              <a:solidFill>
                <a:srgbClr val="003366"/>
              </a:solidFill>
              <a:latin typeface="Verdana"/>
            </a:endParaRPr>
          </a:p>
        </p:txBody>
      </p:sp>
      <p:sp>
        <p:nvSpPr>
          <p:cNvPr id="234"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o Electronic Theft Act (1997)</a:t>
            </a:r>
            <a:endParaRPr b="0" lang="en-US" sz="20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ound recording infringements…can be criminally prosecuted even where no commercial gain is derived from the infringement” (Computer Currents 6/02)</a:t>
            </a:r>
            <a:endParaRPr b="0" lang="en-US" sz="18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 points:</a:t>
            </a:r>
            <a:endParaRPr b="0" lang="en-US" sz="18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iginally intended for software</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commercial gain” redefined as anything of value and prosecuted</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ute of limitations extended from three to five years for NET offenses and criminal not civil</a:t>
            </a:r>
            <a:endParaRPr b="0" lang="en-US" sz="1600" spc="-1" strike="noStrike">
              <a:solidFill>
                <a:srgbClr val="000000"/>
              </a:solidFill>
              <a:latin typeface="Verdana"/>
            </a:endParaRPr>
          </a:p>
        </p:txBody>
      </p:sp>
      <p:pic>
        <p:nvPicPr>
          <p:cNvPr id="235"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Pro and Con</a:t>
            </a:r>
            <a:endParaRPr b="0" lang="en-US" sz="4400" spc="-1" strike="noStrike">
              <a:solidFill>
                <a:srgbClr val="003366"/>
              </a:solidFill>
              <a:latin typeface="Verdana"/>
            </a:endParaRPr>
          </a:p>
        </p:txBody>
      </p:sp>
      <p:sp>
        <p:nvSpPr>
          <p:cNvPr id="237"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uments</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are guaranteed personal-use reproduction rights of both analog/digital sources and recording formats. Big5 infringe upon your rights.</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make song mixes under the ARA as long as they are not for commercial gain.</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trade recordings of non-copyrighted material as long as it is not for commercial gain.</a:t>
            </a:r>
            <a:endParaRPr b="0" lang="en-US" sz="14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produce devices that disassemble or reverse-engineer protection technologies for media</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distribute copyrighted works for commercial gain (publishing rights controlled by ASCAP, usually)</a:t>
            </a:r>
            <a:endParaRPr b="0" lang="en-US" sz="1400" spc="-1" strike="noStrike">
              <a:solidFill>
                <a:srgbClr val="000000"/>
              </a:solidFill>
              <a:latin typeface="Verdana"/>
            </a:endParaRPr>
          </a:p>
        </p:txBody>
      </p:sp>
      <p:pic>
        <p:nvPicPr>
          <p:cNvPr id="238" name="logo_7C869C" descr=""/>
          <p:cNvPicPr/>
          <p:nvPr/>
        </p:nvPicPr>
        <p:blipFill>
          <a:blip r:embed="rId1"/>
          <a:stretch/>
        </p:blipFill>
        <p:spPr>
          <a:xfrm>
            <a:off x="1066680" y="2209680"/>
            <a:ext cx="1897200" cy="503280"/>
          </a:xfrm>
          <a:prstGeom prst="rect">
            <a:avLst/>
          </a:prstGeom>
          <a:ln w="0">
            <a:noFill/>
          </a:ln>
        </p:spPr>
      </p:pic>
      <p:pic>
        <p:nvPicPr>
          <p:cNvPr id="239" name="kazaa_logo" descr="KaZaA">
            <a:hlinkClick r:id="rId2"/>
          </p:cNvPr>
          <p:cNvPicPr/>
          <p:nvPr/>
        </p:nvPicPr>
        <p:blipFill>
          <a:blip r:embed="rId3"/>
          <a:stretch/>
        </p:blipFill>
        <p:spPr>
          <a:xfrm>
            <a:off x="1295280" y="3124080"/>
            <a:ext cx="1336680" cy="685800"/>
          </a:xfrm>
          <a:prstGeom prst="rect">
            <a:avLst/>
          </a:prstGeom>
          <a:ln w="0">
            <a:noFill/>
          </a:ln>
        </p:spPr>
      </p:pic>
      <p:pic>
        <p:nvPicPr>
          <p:cNvPr id="240" name="bearshareboxsm" descr="Purchase BearShare Pro">
            <a:hlinkClick r:id="rId4"/>
          </p:cNvPr>
          <p:cNvPicPr/>
          <p:nvPr/>
        </p:nvPicPr>
        <p:blipFill>
          <a:blip r:embed="rId5"/>
          <a:stretch/>
        </p:blipFill>
        <p:spPr>
          <a:xfrm>
            <a:off x="1143000" y="4084560"/>
            <a:ext cx="172548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1</a:t>
            </a:r>
            <a:endParaRPr b="0" lang="en-US" sz="4400" spc="-1" strike="noStrike">
              <a:solidFill>
                <a:srgbClr val="003366"/>
              </a:solidFill>
              <a:latin typeface="Verdana"/>
            </a:endParaRPr>
          </a:p>
        </p:txBody>
      </p:sp>
      <p:sp>
        <p:nvSpPr>
          <p:cNvPr id="242"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43" name="gamepass100052020022113" descr="Games Freedom Pass...NO Extended Viewing Fees for 30 days!">
            <a:hlinkClick r:id="rId1"/>
          </p:cNvPr>
          <p:cNvPicPr/>
          <p:nvPr/>
        </p:nvPicPr>
        <p:blipFill>
          <a:blip r:embed="rId2"/>
          <a:stretch/>
        </p:blipFill>
        <p:spPr>
          <a:xfrm>
            <a:off x="990720" y="2438280"/>
            <a:ext cx="3371760" cy="1143000"/>
          </a:xfrm>
          <a:prstGeom prst="rect">
            <a:avLst/>
          </a:prstGeom>
          <a:ln w="0">
            <a:noFill/>
          </a:ln>
        </p:spPr>
      </p:pic>
      <p:pic>
        <p:nvPicPr>
          <p:cNvPr id="244" name="logo" descr="Get Any Game Monitor (SM)">
            <a:hlinkClick r:id="rId3"/>
          </p:cNvPr>
          <p:cNvPicPr/>
          <p:nvPr/>
        </p:nvPicPr>
        <p:blipFill>
          <a:blip r:embed="rId4"/>
          <a:stretch/>
        </p:blipFill>
        <p:spPr>
          <a:xfrm>
            <a:off x="914400" y="4038480"/>
            <a:ext cx="3600360" cy="1497240"/>
          </a:xfrm>
          <a:prstGeom prst="rect">
            <a:avLst/>
          </a:prstGeom>
          <a:ln w="0">
            <a:noFill/>
          </a:ln>
        </p:spPr>
      </p:pic>
      <p:sp>
        <p:nvSpPr>
          <p:cNvPr id="245" name=""/>
          <p:cNvSpPr/>
          <p:nvPr/>
        </p:nvSpPr>
        <p:spPr>
          <a:xfrm>
            <a:off x="8380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etanygam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2</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video games are not produced according to PC-readable file systems (NTFS, etc.) but instead use uncommon sector sizes, boot blocks/code or use non-standard structure to obscure the content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re rendered unreadable by CD-R/RW</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file systems are poorly-documented or protected by NDAs, applied in manufacturing, patented (GD-ROM)</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ey have to be shared with someone to produce titles for the console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utilize key exchange, others encyrp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08:10:49Z</dcterms:created>
  <dc:creator>Smith</dc:creator>
  <dc:description/>
  <dc:language>en-US</dc:language>
  <cp:lastModifiedBy>Smith</cp:lastModifiedBy>
  <dcterms:modified xsi:type="dcterms:W3CDTF">2002-07-10T20:43:48Z</dcterms:modified>
  <cp:revision>666</cp:revision>
  <dc:subject/>
  <dc:title>Palm Data Security</dc:title>
</cp:coreProperties>
</file>