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EAFA-518A-450F-AF31-3851E1D7E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boot block activates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M hashes BIOS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boot block loads B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hashes Option ROM’s, stores hash in TPM. Option ROM’s 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hashes DRM boot loader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loads DRM boot lo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boot loader hashes DRM kernel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boot loader loads DRM ker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verifies pervious hashes, hashes the OS, stores the hash in the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decrypts OS symmetric key (3DES or AES) with a user key internal to the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uses the OS decryption key to dynamically decrypt the operating system while loading the OS from mass storage into memory.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loads initial approved hardware list (HCL), initial Serial Number Revocation List (SRL), verifies previous ha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hashes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application is licensed for the current mother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secure time against application license d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application-specific SRL via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required applications are running. (enforces Spyware licen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current Document Revocation List (DRL) via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A96-5272-465C-8C09-D7847097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1B9-8304-442B-94C0-DD1A8F6A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C46-1AA7-4CAD-B70F-95969780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6B4-3826-4DC1-926A-1EF9E779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2E3E-E476-4727-9981-52B3B4F7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65EA-B2D6-4B7C-A396-A417BA04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48F5-BA1E-4B3D-A1D4-BE5027CA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9B81-4432-4747-B91A-00A80A79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6947-94CE-4492-BD9A-3951C8DB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05D6-E9DC-4065-B135-0B319DD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8153-1D2B-40A6-874A-86E1F8BE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D6E-F2BF-4442-8C1B-5182DABE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12B0-9762-4F0C-93DB-93D4729A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AA7E-1689-42DE-93CD-B2D43086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710B-4D04-4F13-A35E-58183E26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A016-1D11-48C1-8374-B188D449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7639-B7C8-4397-B450-68F81F5E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D4C-B0A3-4FCA-A6E8-DD0DADB0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509-4519-49D6-8CB0-24E4231D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C51-1AF9-42E6-BF28-7F4152AD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609-34EF-4E14-A97D-C4E5946B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242-80B8-4389-9472-78D2A2EB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027-3F23-4DA6-B4ED-8B810250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591-5848-46B2-94F0-C210AA6C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E619-AC25-4863-9F85-A21DF305066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27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CA2B-7AC9-4D0B-8E10-3B2C2DBF16B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c7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hamrock@cypherpunks.to" TargetMode="Externa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ustedcomputing.org/" TargetMode="External"/><Relationship Id="rId3" Type="http://schemas.openxmlformats.org/officeDocument/2006/relationships/hyperlink" Target="http://www.cl.cam.ac.uk/~rja14/tcpa-faq.html" TargetMode="External"/><Relationship Id="rId4" Type="http://schemas.openxmlformats.org/officeDocument/2006/relationships/hyperlink" Target="http://www.ftp.cl.cam.ac.uk/ftp/users/rja14/toulouse.pdf" TargetMode="External"/><Relationship Id="rId5" Type="http://schemas.openxmlformats.org/officeDocument/2006/relationships/hyperlink" Target="http://www.msnbc.com/news/770511.asp?cp1=1" TargetMode="External"/><Relationship Id="rId6" Type="http://schemas.openxmlformats.org/officeDocument/2006/relationships/hyperlink" Target="http://www.uspto.gov/patft/" TargetMode="External"/><Relationship Id="rId7" Type="http://schemas.openxmlformats.org/officeDocument/2006/relationships/hyperlink" Target="http://www.microsoft.com/presspass/features/2002/jul02/07-01palladium.asp" TargetMode="External"/><Relationship Id="rId8" Type="http://schemas.openxmlformats.org/officeDocument/2006/relationships/hyperlink" Target="http://thomas.loc.gov/cgi-bin/query/z?c107:S.2048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Business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use of unlicensed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Rights Management (DR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CD ripping and DivX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“analog ho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information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C the core of the home entertainment center, growing overall mar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operational needs of law enforcement and intelligence services (FBI, Homeland, NSA, non-U.S. law enforcemen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Intern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yptographic oper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ing (SHA-1, HMA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number generation (RNG), post-whitening output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key generation (2048-bit 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key encrypt/decrypt (2048-bit 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encrypt/decrypt (3DES, A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key operations may be performed off-c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mper-resistant hash and key st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Key Manag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rsement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RSA key generated at time of manufacture. Signed by manufacturer’s key, which is signed by the TCPA master key. Used to prove that the TPM is genu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K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user RSA keys certified by a “Privacy CA” at time of TPM activation. Used to identify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81480" y="2133720"/>
            <a:ext cx="2590920" cy="4343400"/>
          </a:xfrm>
          <a:prstGeom prst="rect">
            <a:avLst/>
          </a:prstGeom>
          <a:solidFill>
            <a:srgbClr val="969696">
              <a:alpha val="30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ahoma"/>
              </a:rPr>
              <a:t>TP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pre-OS 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057400"/>
            <a:ext cx="1905120" cy="45720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BIOS boot bloc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819520"/>
            <a:ext cx="1600200" cy="68580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BI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297180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733920"/>
            <a:ext cx="1600200" cy="76176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pt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ROM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388620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4724280"/>
            <a:ext cx="1600200" cy="91440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M boot load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4952880"/>
            <a:ext cx="182880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5791320"/>
            <a:ext cx="1676520" cy="53316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M kern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6477120"/>
            <a:ext cx="609480" cy="228600"/>
          </a:xfrm>
          <a:prstGeom prst="flowChartOffpageConnec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1" idx="2"/>
            <a:endCxn id="122" idx="1"/>
          </p:cNvCxnSpPr>
          <p:nvPr/>
        </p:nvCxnSpPr>
        <p:spPr>
          <a:xfrm flipH="1">
            <a:off x="2628360" y="2514240"/>
            <a:ext cx="76680" cy="30564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1" name=""/>
          <p:cNvCxnSpPr>
            <a:stCxn id="122" idx="4"/>
            <a:endCxn id="124" idx="1"/>
          </p:cNvCxnSpPr>
          <p:nvPr/>
        </p:nvCxnSpPr>
        <p:spPr>
          <a:xfrm>
            <a:off x="2628720" y="3504960"/>
            <a:ext cx="1080" cy="22932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2" name=""/>
          <p:cNvCxnSpPr>
            <a:stCxn id="124" idx="4"/>
            <a:endCxn id="126" idx="1"/>
          </p:cNvCxnSpPr>
          <p:nvPr/>
        </p:nvCxnSpPr>
        <p:spPr>
          <a:xfrm>
            <a:off x="2628720" y="4495320"/>
            <a:ext cx="1080" cy="22932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3" name=""/>
          <p:cNvCxnSpPr>
            <a:stCxn id="126" idx="4"/>
            <a:endCxn id="128" idx="1"/>
          </p:cNvCxnSpPr>
          <p:nvPr/>
        </p:nvCxnSpPr>
        <p:spPr>
          <a:xfrm>
            <a:off x="2628720" y="5638680"/>
            <a:ext cx="38520" cy="1533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4" name=""/>
          <p:cNvCxnSpPr>
            <a:stCxn id="128" idx="4"/>
            <a:endCxn id="129" idx="0"/>
          </p:cNvCxnSpPr>
          <p:nvPr/>
        </p:nvCxnSpPr>
        <p:spPr>
          <a:xfrm>
            <a:off x="2666520" y="6324480"/>
            <a:ext cx="1080" cy="1533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5" name=""/>
          <p:cNvCxnSpPr>
            <a:stCxn id="122" idx="5"/>
            <a:endCxn id="123" idx="1"/>
          </p:cNvCxnSpPr>
          <p:nvPr/>
        </p:nvCxnSpPr>
        <p:spPr>
          <a:xfrm>
            <a:off x="3265560" y="3162240"/>
            <a:ext cx="2373840" cy="388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4" idx="5"/>
            <a:endCxn id="125" idx="1"/>
          </p:cNvCxnSpPr>
          <p:nvPr/>
        </p:nvCxnSpPr>
        <p:spPr>
          <a:xfrm>
            <a:off x="3265560" y="4114440"/>
            <a:ext cx="23738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6" idx="5"/>
            <a:endCxn id="127" idx="1"/>
          </p:cNvCxnSpPr>
          <p:nvPr/>
        </p:nvCxnSpPr>
        <p:spPr>
          <a:xfrm>
            <a:off x="3265560" y="5181120"/>
            <a:ext cx="23738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5638680" y="5791320"/>
            <a:ext cx="182880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8" idx="5"/>
            <a:endCxn id="138" idx="1"/>
          </p:cNvCxnSpPr>
          <p:nvPr/>
        </p:nvCxnSpPr>
        <p:spPr>
          <a:xfrm flipV="1">
            <a:off x="3335400" y="6019560"/>
            <a:ext cx="2304000" cy="388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9880" y="3886200"/>
            <a:ext cx="1676520" cy="2514600"/>
          </a:xfrm>
          <a:prstGeom prst="rect">
            <a:avLst/>
          </a:prstGeom>
          <a:solidFill>
            <a:srgbClr val="cccccc">
              <a:alpha val="30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Tahoma"/>
              </a:rPr>
              <a:t>Phase II: inside TPM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2286000"/>
            <a:ext cx="2133720" cy="4114800"/>
          </a:xfrm>
          <a:prstGeom prst="rect">
            <a:avLst/>
          </a:prstGeom>
          <a:solidFill>
            <a:srgbClr val="969696">
              <a:alpha val="30000"/>
            </a:srgbClr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ahoma"/>
              </a:rPr>
              <a:t>TP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057400"/>
            <a:ext cx="457200" cy="457200"/>
          </a:xfrm>
          <a:prstGeom prst="flowChartConnec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895480"/>
            <a:ext cx="1219320" cy="76212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04812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4267080"/>
            <a:ext cx="137160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RSA decrypt OS binary ke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267080"/>
            <a:ext cx="121896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ES decrypt OS binar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267080"/>
            <a:ext cx="121896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Load 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286000"/>
            <a:ext cx="1447560" cy="342900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roved Hardware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HC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erial Number Revocation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SR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3" idx="4"/>
            <a:endCxn id="144" idx="1"/>
          </p:cNvCxnSpPr>
          <p:nvPr/>
        </p:nvCxnSpPr>
        <p:spPr>
          <a:xfrm>
            <a:off x="3047760" y="2514600"/>
            <a:ext cx="1080" cy="38160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1" name=""/>
          <p:cNvCxnSpPr>
            <a:stCxn id="145" idx="2"/>
            <a:endCxn id="146" idx="0"/>
          </p:cNvCxnSpPr>
          <p:nvPr/>
        </p:nvCxnSpPr>
        <p:spPr>
          <a:xfrm flipH="1">
            <a:off x="6476760" y="3505320"/>
            <a:ext cx="38880" cy="7624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2" name=""/>
          <p:cNvCxnSpPr>
            <a:stCxn id="146" idx="1"/>
            <a:endCxn id="147" idx="3"/>
          </p:cNvCxnSpPr>
          <p:nvPr/>
        </p:nvCxnSpPr>
        <p:spPr>
          <a:xfrm flipH="1">
            <a:off x="5181120" y="4723920"/>
            <a:ext cx="610560" cy="1080"/>
          </a:xfrm>
          <a:prstGeom prst="straightConnector1">
            <a:avLst/>
          </a:prstGeom>
          <a:ln w="9360">
            <a:solidFill>
              <a:srgbClr val="336666"/>
            </a:solidFill>
            <a:miter/>
          </a:ln>
        </p:spPr>
      </p:cxnSp>
      <p:cxnSp>
        <p:nvCxnSpPr>
          <p:cNvPr id="153" name=""/>
          <p:cNvCxnSpPr>
            <a:stCxn id="149" idx="4"/>
            <a:endCxn id="148" idx="1"/>
          </p:cNvCxnSpPr>
          <p:nvPr/>
        </p:nvCxnSpPr>
        <p:spPr>
          <a:xfrm>
            <a:off x="1752480" y="4000680"/>
            <a:ext cx="610560" cy="72432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1981080" y="5791320"/>
            <a:ext cx="1600200" cy="53316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S is runn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8" idx="2"/>
            <a:endCxn id="154" idx="0"/>
          </p:cNvCxnSpPr>
          <p:nvPr/>
        </p:nvCxnSpPr>
        <p:spPr>
          <a:xfrm flipH="1">
            <a:off x="2780640" y="5181480"/>
            <a:ext cx="191160" cy="6105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6" name=""/>
          <p:cNvCxnSpPr>
            <a:stCxn id="144" idx="5"/>
            <a:endCxn id="145" idx="1"/>
          </p:cNvCxnSpPr>
          <p:nvPr/>
        </p:nvCxnSpPr>
        <p:spPr>
          <a:xfrm>
            <a:off x="3533400" y="3276360"/>
            <a:ext cx="21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7" idx="1"/>
            <a:endCxn id="148" idx="3"/>
          </p:cNvCxnSpPr>
          <p:nvPr/>
        </p:nvCxnSpPr>
        <p:spPr>
          <a:xfrm flipH="1">
            <a:off x="3580560" y="4723920"/>
            <a:ext cx="38196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39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Known Initial St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OS is TCPA-appro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CI cards are TCPA-appro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MA devices do not enable unapproved access to operating R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kernel-level debugger is loa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list of undesirable applications is available for proc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of TCPA operating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: Palladium (DRM OS pat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: Lin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Initial Tas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secure time counter (no turning back the system clock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chronize system time against authenticated online time serv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HCL and SRL updates over the Intern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e-application 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rimary application loader protection mo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o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S will refuse to load a non-TCPA approved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ary”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S will load a non-approved application, sending SIGCOMP to all loaded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lication Loader Protection Modes Comparis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14400" y="2209680"/>
          <a:ext cx="8001000" cy="416268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286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datory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”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hashes application, stores hash in TPM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TCPA-approved applications not listed on an SRL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application on SRL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non-approved applicatio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 TCP applications receive SIGCOMP, zeroize their operating RAM, and shut down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Application Initial Tas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362320"/>
            <a:ext cx="1600200" cy="60948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lication is loaded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133720"/>
            <a:ext cx="121932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hashes in TPM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2133720"/>
            <a:ext cx="106668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platform ID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133720"/>
            <a:ext cx="114300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license duration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648320"/>
            <a:ext cx="137160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btain fresh SRL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648320"/>
            <a:ext cx="190512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mandatory applications are running (Spyware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4648320"/>
            <a:ext cx="152388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btain fresh Document Revocation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DR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648320"/>
            <a:ext cx="1219320" cy="144756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RL Serv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2133720"/>
            <a:ext cx="990720" cy="129528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L 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01000" y="3429000"/>
            <a:ext cx="990720" cy="129528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L 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7" idx="3"/>
            <a:endCxn id="168" idx="1"/>
          </p:cNvCxnSpPr>
          <p:nvPr/>
        </p:nvCxnSpPr>
        <p:spPr>
          <a:xfrm>
            <a:off x="1828800" y="2666520"/>
            <a:ext cx="38160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78" name=""/>
          <p:cNvCxnSpPr>
            <a:stCxn id="168" idx="3"/>
            <a:endCxn id="169" idx="1"/>
          </p:cNvCxnSpPr>
          <p:nvPr/>
        </p:nvCxnSpPr>
        <p:spPr>
          <a:xfrm>
            <a:off x="3428640" y="26665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79" name=""/>
          <p:cNvCxnSpPr>
            <a:stCxn id="169" idx="3"/>
            <a:endCxn id="170" idx="1"/>
          </p:cNvCxnSpPr>
          <p:nvPr/>
        </p:nvCxnSpPr>
        <p:spPr>
          <a:xfrm>
            <a:off x="4800240" y="2666520"/>
            <a:ext cx="22932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0" name=""/>
          <p:cNvCxnSpPr>
            <a:stCxn id="171" idx="3"/>
            <a:endCxn id="172" idx="1"/>
          </p:cNvCxnSpPr>
          <p:nvPr/>
        </p:nvCxnSpPr>
        <p:spPr>
          <a:xfrm>
            <a:off x="3276720" y="5371920"/>
            <a:ext cx="30528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1" name=""/>
          <p:cNvCxnSpPr>
            <a:stCxn id="172" idx="3"/>
            <a:endCxn id="173" idx="1"/>
          </p:cNvCxnSpPr>
          <p:nvPr/>
        </p:nvCxnSpPr>
        <p:spPr>
          <a:xfrm>
            <a:off x="5486040" y="53719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7620120" y="5334120"/>
            <a:ext cx="1447560" cy="83808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lication is ready for user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5" idx="3"/>
            <a:endCxn id="173" idx="0"/>
          </p:cNvCxnSpPr>
          <p:nvPr/>
        </p:nvCxnSpPr>
        <p:spPr>
          <a:xfrm flipH="1">
            <a:off x="6552720" y="3428640"/>
            <a:ext cx="1029600" cy="122004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3" idx="3"/>
            <a:endCxn id="182" idx="1"/>
          </p:cNvCxnSpPr>
          <p:nvPr/>
        </p:nvCxnSpPr>
        <p:spPr>
          <a:xfrm>
            <a:off x="7314840" y="5372280"/>
            <a:ext cx="305640" cy="381600"/>
          </a:xfrm>
          <a:prstGeom prst="bentConnector3">
            <a:avLst>
              <a:gd name="adj1" fmla="val 50000"/>
            </a:avLst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5" name=""/>
          <p:cNvCxnSpPr>
            <a:stCxn id="174" idx="4"/>
            <a:endCxn id="171" idx="1"/>
          </p:cNvCxnSpPr>
          <p:nvPr/>
        </p:nvCxnSpPr>
        <p:spPr>
          <a:xfrm>
            <a:off x="1599840" y="53719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0" idx="2"/>
            <a:endCxn id="171" idx="0"/>
          </p:cNvCxnSpPr>
          <p:nvPr/>
        </p:nvCxnSpPr>
        <p:spPr>
          <a:xfrm rot="5400000">
            <a:off x="3371040" y="2419200"/>
            <a:ext cx="1448640" cy="3010680"/>
          </a:xfrm>
          <a:prstGeom prst="bentConnector3">
            <a:avLst>
              <a:gd name="adj1" fmla="val 49987"/>
            </a:avLst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7" name=""/>
          <p:cNvCxnSpPr>
            <a:stCxn id="176" idx="2"/>
            <a:endCxn id="173" idx="0"/>
          </p:cNvCxnSpPr>
          <p:nvPr/>
        </p:nvCxnSpPr>
        <p:spPr>
          <a:xfrm flipH="1">
            <a:off x="6552720" y="4076640"/>
            <a:ext cx="1448640" cy="57240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ost-application 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hashes in T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application is licensed for the current mother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secure time against application license d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s application-specific SRL via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required applications are running. (Enforces Spyware licens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s current Document Revocation List (DRL) via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Technic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owner of a computer from obtaining root ac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force three levels of access privile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ileged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CPA members only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privileged access [platform owner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ivileged access [non-TCPA application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Stifling Compet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me at this thinking about music, but then we realized that e-mail and documents were far more interesting domain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- Bill Gates, Microso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ould create Word documents that could be read only in the next week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- Steven Levy, MSNBC/News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: How will the Law Help TCPA Stifle Competitio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vendors intend to wrap their file formats with D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: What does a federal prosecutor call an application that is compatible with a proprietary DRM-wrapped file forma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7774"/>
                </a:solidFill>
                <a:latin typeface="Arial"/>
              </a:rPr>
              <a:t>Answer: An illegal infringement dev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equences of Ubiquitous Digital Rights Manag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s it illegal to create interoperable software in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jects authors of interoperable software to penalties of up to $500,000 and 5 years in prison (and double that for subsequent offens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aw is already on the books: Digital Millennium Copyright Act (DMC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6858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ftware Authors’ Choi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create interoperable softw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nd 5 years in pris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Repor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ng State to Challeng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: operating system,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: challengers requesting state via the Internet (digital content servers, secure time servers, information authorization serv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porting to Remote Enti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 challengers can determine th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is in an approve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 of the machine does not have privileged access to the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nd application software are fully licensed with maintenance fees p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nd applications are unmod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pproved applications are loa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Feature Enabl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e ongoing revenue stre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fle competition (DMC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eat the GP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e information invalid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ate intelligence col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law enforcement nee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and many m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981080"/>
            <a:ext cx="381240" cy="457200"/>
          </a:xfrm>
          <a:prstGeom prst="irregularSeal1">
            <a:avLst/>
          </a:prstGeom>
          <a:solidFill>
            <a:srgbClr val="99cccc"/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2514600"/>
            <a:ext cx="381240" cy="457200"/>
          </a:xfrm>
          <a:prstGeom prst="irregularSeal1">
            <a:avLst/>
          </a:prstGeom>
          <a:solidFill>
            <a:srgbClr val="99cccc"/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feat the GP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P is developing a TCPA-compliant version of Linu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PL requires the result to be Open Sour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rce code will compile and can be ver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: the source alone is useless without a TPM-specific certific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ggested Fixes to the GP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software authors to provide whichever services are necessary to enable an application to operate as the user desi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Stallman’s “Free Speech” vs. “Free Beer”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M prevents application authors from providing the activation key even if they so desire. (Violation of the DM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third parties to provide the serv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and Bob agree that Carol shall provide free beer to all comers in perpetuity. (Unenforceable Contrac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formation Invalid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queries Document Revocation List servers for the latest DR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ons for placing a document on a DR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a compromised (unpaid) copy of th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d by court order: Official Secrets Act, copyrighted material, danger to Homeland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illegal content: pictures of women without veils in Muslim countries, copy control ciphers in the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umber of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Herit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ucceed where previous efforts have fail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ID (Intel, 1995-199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CPU instruction sets (Intel, 1995-TCPA Phase I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ryptography Framework (HP, 199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cards on motherboard (IBM, ongo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elligence Colle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s signed by user keys allow activity corre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bally unique document IDs facilitate traffic ana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emptive information invalidation enables information flow contr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w Enforcement Nee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niable proof of autho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monitoring/trac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invalidation by court or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Law Enforcement access after public information invalidation for evidentiary purpo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ll TCPA Meet Governmental Requirement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re talking to the government [...] T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overnments in the world, and not just the U.S. Government.”      -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rio Juarez, Microsoft, Palladium (TCPA) Product 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ritz Hollings Bill: S. 2048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BDPTA (formerly SSS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ug “analog hole” with 2048-bit R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 encrypt keyboard input to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. 2048 makes i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lleg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sell non-TCPA-compliant compu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: Fritz Hollings S. 2048 Penal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: what is the penalty a person selling a non-TCPA approved computer will face under the Hollings bi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fix-it” ti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onths in j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$500,000 fine and 5 years in prison for the first offense; double that for each subsequent off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The correct answer is 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A $500,000 fine and 5 years in prison for the first offense; double that for each subsequent offen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ut Palladium will be Released as Open Sourc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announced that Palladium’s source code will be pu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re trying to be transparent in all this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im Allchin, Group Vice President, Windows, Microso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take this as proof that Microsoft has changed its business pract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s remain skeptic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iz: Why is Microsoft Releasing the Palladium Source Code?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estion: which of the following answers is correc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intends to place MS Office under the GPL in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ll release the Windows source code under the BSD license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has little choice but to release Palladium as Open Source because S. 2048 require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The correct answer is C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S. 2048 requires that “the security system standards shall ensure [...] that any software portion of such standards is based on open source code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 of TPM’s is Volunt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thing I can guarantee is that [Palladium] will be 'off' by default, an opt-in technology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uart Okin, Security Officer, Microsoft, United King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gasoline in a car is an opt-in technolo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8098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uld an OS Vendor Block “Undesirable” Application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may provide security related updates to the OS Components that will be automatically downloaded onto your computer.  These security related updates may disable your ability to copy and/or play Secure Content and use other software on your computer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icrosoft, Windows Media Player E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hase I: Digital Ho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 codes are in plaintext on the b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icroprobed off the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Encrypted CPU instruction sets in TCPA Phase II (TPM inside CP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can select non-TCPA-approved OS for minimum functional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Prevent non-approved OS from accessing CPU supervisor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will be new modes and new instructions.... A whole new class of processors not differentiated by speed, but security.” -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ffrey Strongin, 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 new hardware architecture involves some changes to CPUs which are significant from a functional perspective.” -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io Juarez, 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Hist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ed in 1999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y TCPA Might Succe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or I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went alone. AMD publicly rejected Processor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privacy advocates were not considered a serious th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, AMD, Motorola, BIOS vendors, system vendors, and application vendors are all on 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rong technical and legislative initi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privacy groups were briefed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12680" y="3429000"/>
            <a:ext cx="8955000" cy="114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1066680" y="5486400"/>
            <a:ext cx="1981440" cy="380880"/>
          </a:xfrm>
          <a:prstGeom prst="borderCallout1">
            <a:avLst>
              <a:gd name="adj1" fmla="val 18750"/>
              <a:gd name="adj2" fmla="val -8333"/>
              <a:gd name="adj3" fmla="val 437495"/>
              <a:gd name="adj4" fmla="val -179648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Mobile Phon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-Enabled Platfor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257800"/>
            <a:ext cx="1752480" cy="380880"/>
          </a:xfrm>
          <a:prstGeom prst="borderCallout1">
            <a:avLst>
              <a:gd name="adj1" fmla="val 18750"/>
              <a:gd name="adj2" fmla="val -8333"/>
              <a:gd name="adj3" fmla="val -300833"/>
              <a:gd name="adj4" fmla="val 176541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PD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247840"/>
            <a:ext cx="2133720" cy="419040"/>
          </a:xfrm>
          <a:prstGeom prst="borderCallout1">
            <a:avLst>
              <a:gd name="adj1" fmla="val 18750"/>
              <a:gd name="adj2" fmla="val -8333"/>
              <a:gd name="adj3" fmla="val 384092"/>
              <a:gd name="adj4" fmla="val 306324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Laptop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1676520" cy="380880"/>
          </a:xfrm>
          <a:prstGeom prst="borderCallout1">
            <a:avLst>
              <a:gd name="adj1" fmla="val 18750"/>
              <a:gd name="adj2" fmla="val -8333"/>
              <a:gd name="adj3" fmla="val 370000"/>
              <a:gd name="adj4" fmla="val 163634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End Resul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d result is a system with security similar to a closed-architecture system but with the flexibility of the open Windows platform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hn Manferdelli, General Manager, Microsoft "Palladium" Business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ail Lucky Green </a:t>
            </a: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shamrock@cypherpunks.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ies will occur after DEF C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, talk to me during the c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orge Orwell,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usted Computing Platform Al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trustedcomputing.org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Main Specifications Version 1.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PC Specific Implementation Specifications Version 1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Trusted Platform Module Protection Profile Version 1.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ss Ander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/ Palladium Frequently Asked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www.cl.cam.ac.uk/~rja14/tcpa-faq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in Open versus Closed Systems - The Dance of Boltzmann, Coase and Mo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http://www.ftp.cl.cam.ac.uk/ftp/users/rja14/toulouse.pd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ven Levy, MSNBC/Newsweek, “The Big Secret”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http://www.msnbc.com/news/770511.asp?cp1=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soft’s DRM OS (Palladium) US Patent 6,330,670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www.uspto.gov/patft/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soft PressPass Q&amp;A Palla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http://www.microsoft.com/presspass/features/2002/jul02/07-01palladium.as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umer Broadband and Digital Television Promotion Act (S. 204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http://thomas.loc.gov/cgi-bin/query/z?c107:S.2048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Membership Profi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CPA is a forum of platform product vend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, Advanced Micro Devices (AMD), Motor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S/Ch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enix/Award, American Megatrends (AMI), National Semicond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Sign, Wave Systems, RSA Security, Check Point, Certicom, Trend Micro, Symantec, Tripwire, Crypto AG [NSA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, Ado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, IBM, Dell, Gateway, Fujitsu, Samsung, Toshi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170+ Member Compan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95280" y="2004840"/>
          <a:ext cx="7696440" cy="4776840"/>
        </p:xfrm>
        <a:graphic>
          <a:graphicData uri="http://schemas.openxmlformats.org/drawingml/2006/table">
            <a:tbl>
              <a:tblPr/>
              <a:tblGrid>
                <a:gridCol w="1866960"/>
                <a:gridCol w="1943280"/>
                <a:gridCol w="1942920"/>
                <a:gridCol w="1943280"/>
              </a:tblGrid>
              <a:tr h="47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Degree Web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om Corp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360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r, Inc.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Card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aero Technologies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 System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Micro Device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sec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ddin Knowledge Systems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ic Research Ltd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Express Company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Megatrends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us Security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l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L Rousset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um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trol Uruguaya S.A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timore Technologies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DATA AG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View Development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tream Technology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ice Research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com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aig Ltd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eo Technology LLC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ium Networks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Infosys Pte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berus Information Security Limited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com Corp.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Point Software Technologies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FLOW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alis-ITS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arron Systems Incorporate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herKey Exchange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akware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 Intelligence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gnie Européenne de Développement SA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l Electronic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q Computer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Elektronik Infosys GmbH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pto AG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gate ESM Oy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K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l Computer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A Technologies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GAN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Innotech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Persona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etix Technologie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PCguard.com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ryp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an Comm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ova Technology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ust Technologie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COM Pty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ntic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alibur Solutions, Inc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GOS Development, LL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GLOQ AB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cces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ress Technologies Inc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jitsu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jitsu-Siemens-Comput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way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plus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Etrotter Softwar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wlett-Packard Company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achi, Ltd. PC Di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Secur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 Softwar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SA.net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Tech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Alink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er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on Technologies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on Technologies Asia Pacific Pte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Core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yde Software Corp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ty Scienc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ok Technologies L.L.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Business Machin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Service Consultant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Dynamic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Security System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Trust Technologie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mega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ten Chase Applied Research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corp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ware Technologi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works Technologies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 (SHENZHEN) R&amp;D Center, Legend Group Ltd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xig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 Audio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ronic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IL Consultin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Systems Flash Disk Pione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S Enterpris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vision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ive Media Group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DNA Incorpora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ogic Co.,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xis Biometrics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n Electronics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ac International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-Mind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ol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emiconductor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ipher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S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Nanny Software International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Active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Atmosphere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Octav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Secure Software Canad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Associat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Trend Technology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ll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idi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Micro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Source Asi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 Guardia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s Semiconducto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enix Technologies, Ltd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enburg Custom Chips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on Digital Hardwar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waterhouse Coop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 Resourc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-Team Computer Corp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 Data Security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bow Technologi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theon Company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-Net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strike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A 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Net, Incorporated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LINK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M MORPHO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RELTO Enterpris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 ELECTRONICS CO.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 Institut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lumberger, Smart Card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Applications International Co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on Technologies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 Microsystem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ra Communications AB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ant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Computing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Systems Solution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mens A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ex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YRU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H Communications 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icrosystems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icroelectronic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antec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Technologies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r Software Corp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les e-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Certain, LL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 Systems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hiba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d Micro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wir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pen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Time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Sec Solution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stpoint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N Entertainment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ze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maco Safeware AG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Cert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Saf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dicom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sign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point Engineerin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ire Advanced Data Security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 Systems Corp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cor Nixdorf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Magic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Vista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190440"/>
            <a:ext cx="73911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Technology (Phase I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sted Platform Module (TPM), aka the “Fritz Chip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per resistant chip to be included on all future motherbo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mount; either a separate part or integrated into the chip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Criteria EAL3 [augmented] cer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29718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Functionality Categor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Measur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yptographic ope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 process has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4:21:27Z</dcterms:created>
  <dc:creator>Lucky Green</dc:creator>
  <dc:description/>
  <dc:language>en-US</dc:language>
  <cp:lastModifiedBy>Lucky Green</cp:lastModifiedBy>
  <dcterms:modified xsi:type="dcterms:W3CDTF">2002-07-10T15:33:49Z</dcterms:modified>
  <cp:revision>139</cp:revision>
  <dc:subject/>
  <dc:title>TCPA: the mother(board) of all Big Brothers</dc:title>
</cp:coreProperties>
</file>