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72BE-0296-489C-BDC5-F7CF5ED4EA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S suffer from sever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y are purely passive, and so cannot stop an attack. Thus if the sysadmin takes even just 5 minutes to respond, that means an attacker is potentially on your LAN for 5 minutes, installing worms, rootkits etc, which may take many man-hours to track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traditional approaches cannot detect wholly new attacks, as discussed. There is thus a lag between attacks occurring, and someone noticing an attack (often by a HIDS) and crafting the relevant rule for the N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they cannot have no false positives or negatives. Whilst such things can be limited, they cannot be stopped. There is also an inverse relationship between genericity (is that a word?)  of a rule – I.e. making it general enough to notice many different attacks – and the false positive rate. E.g. NOP slides are nice general signatures that will match many buffer overflow attempts. Unfortunately, they also match large numbers of other files, the main one being imag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problems is the length of the response loop between dangerous traffic being flagged, and actions being taken, due to the delays implicit in involving humans. Therefore it is thought desirous to combine firewall and NIDS functionality into one device, allowing routing/filtering to be performed  based on both traditional firewall rules, and IDS tests. This would help secure networks and devices, and also will allow for some quite funky functionality – for example the dynamic transparent re-routing of attacks and follow-up behaviour to a honeypot/honeyn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to perform this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support can be added to the NIDS to connect to a firewall and modify it’s rules, or forge TCP RST packets to both ends of a connection in order to kill it. This can be, and is indeed being done from, any network device aware of the conn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problem with this is that it can only filter traffic after the first dodgy traffic has entered the network. This means, for example, that single-packet UDP/ICMP etc attacks will pass through – for example the good old fashioned ping of death on windows boxen. Whilst I’m all in favour of all windows-only users being DOS’d, many people often seem to complai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e wish to combine firewall and IDS functionality on the same device. The development of this could involve:-</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ing firewall-style facilities into a NIDS. This is the approach followed by Hogwash</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ing IDS facilities into a firewall. E.g. by adding an IDS table(?) into netfilter.</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 new system from scratch, and allow many different types of analysis etc to be add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work has been performed in academia on the integration front, although some good stuff has been provided on improvements to the actual IDS searches/analysis algorith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gwash is a very good product which does give some of the desired functionality, which appears to be gaining a great deal of support. This is a wrapped around a slightly modified version of snort, and allows reject/drop/allow decisions to be made on packets based on snort rules. Additionally, I believe it can perform what I term ‘mangling’, namely the modification of packet data and headers as it passes through, e.g. to nullify an expl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mmercial IDSs are beginning to offer some response, e.g. tcp resets. Some also allow the IDS to run scripts, which could, for example, reconfigure firewalls. GIDS functionality has now been added by several vendors, although only recent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big problems – which are more configuration issues than anything – with GIDS. The first of these is the possibility to shoot yourself in the foot by responding to traffic which is either a false positive, or has been spoofed. For example, if you block your upstream router for 6 hours due to a spoofed UDP exploit, your plebs (and importantly your managers!) won’t be very happy. As Thomas Munn mentioned (I think) in his presentation, if you do this in a high value/high availability industry like the financials, that sort of misconfiguration could rapidly foreshorten your career wit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processing requirements. Firewalls, even advanced ones, aren’t really doing that many calculations, and so can operate at very high bandwidths. If however, you start doing complex pattern-matching on packets, your available bandwidth will rapidly drop. The admin should therefore only perform the minimum of tests desired, and the GIDS must be fast at the ones it does. This is a lot more critical than with a NIDS, because if a NIDS can’t keep up – you may miss some dodgy traffic but the people sending/receiving won’t care, if a GIDS can’t keep up then you’ll start getting dropped packets etc at which point client/customers/etc will begin to get really annoye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at the time, hogwash was quite young) lack of a GIDS solution, especially one designed from ground up to _be_ a GIDS solution, I decided to design one. I decided the design should be modular to make it easier to support and extend, and also that way you can just remove modules you don’t need, for both security and efficiency reas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ways find it useful, before designing a system (from top-down anyway) to model an example situation, so that’s what I did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 want traffic from the internal network to pass through Rubicon fine, and responses to be received. Standard firewall behavio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I wanted unwanted traffic, normally mainly from the internet to be dropped. Again, standard firewall behaviou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ed the facility for some incoming data to be analysed IDS-like, and if it is dodgy, have it rerouted transparently to a honeynet/pot. All further transactions from the ‘attacker’ (maybe for only a certain time period), should then also be rerouted. Essentially N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tacker breaks into the honeynet – they will normally want to do something with it, be it ircd, warez, or hacking. Therefore, whilst allowing them to do connections outwards, we want to limit the connections to non-damaging ones (especially only allow legal stuff), partly for liability reasons. Therefore, we wish to be able to perform IDS analysis on certain outbound traffic. However, the question is – what do we do when it is flagged as dodgy? If it’s a DoS, we can just drop it, but otherwise it may be interesting to see what the attacker does. Therefore, it will be of interest to just modify the outgoing packets enough to remove any exploit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is example, obvious requirements can be found. These really explain themselv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o the design of Rubicon. I used a top-down approach. Firstly, after looking at a few example situations, and other products (things have changed a lot over the last 10 months), I came up with the components that Rubicon comprises. Essentially, on the left are the different types of plugin, which all communicate through a central loop. On the right is the policy-subsystem, with both local and remote storage and ac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process, after initialisation etc, loops, querying the policy for actions and calling the desired plugins as required. Each full loop iteration handles a single packet. When a packet is received, it is wrapped into a PACKET structure. As protocols are decoded, or certain tests are performed, PROTOCOL structures are then appended to the PACKE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structure is essentially a collection of pointers and lengths. It points to the packet, it’s length, and the header and length of the highest decoded protocol. It also has a pointer to the head of a linked list of PROTOCOL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structure contains pointers to the protocol header, footer and payload, and their corresponding lengths. Most of the time, these just point to the correct part of the packet. However, when the protocol is decoded into a special form, e.g. decryption of some form, then they may point elsewhere. This behaviour is governed by the relevant protocol plugi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has been made of the runtime- loaded plugins. These are currently supported through dlopen etc, I.e. they are essentially shared libraries. It is under consideration that this be ported to the libtool libtdl method, which would allow the plugins to also be used on systems which do not support shared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functions common to all plugins, those for the initial registration, initialisation, and cleanup. There are then 4 classes (although not technically ‘classes’) of plu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 Allows the central loop to obtain new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 Outputs. This can output to anything, the network, file lo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ny type of analysis, e.g. pattern/signature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 Allows protocol support. This has sever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de – Create a PROTOCOL structure and append to the packet, if the protocol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 Allow special protocol specific tests, for example checking whether a checksum is correct, or a packet frag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ktest – Creates a policy-test (se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 – print the relevant part of the packet. This allows correct formatting of a field, e.g. dotted IP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lugins must export at least one of these interfaces. However, they may export several. For example, the defrag plugin is both an import and analysis plugin. It is called in a policy to check whether a packet is fragmented (analysis). If it is, then the packet is stored internally and reassembled when possible. When a new packet is reassembled, it is then made available to the input of the plugin. Plugins can also call other plugins (via the central loop). This enables, for example, the text printing outputs to call the relevant protocol plugins to print specific fields, e.g. %eth.saddr; calls the eth plugin (ethernet), which then prints the saddr (source address) in the desired colon seperated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allows support for new protocols, analysis, outputs and inputs to be easily craft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s controlled via policies. These can be set locally, or retrieved remotely (when I get around to coding it up again). The policy subsystem runs on a separate loop to the core analysis system. The ‘internal’ interface between these systems comprises a mutexed shared pointer to the locally compiled policy. This enables the policy thread to compile incoming policies and changes without having to pause the analysis and forwarding flow. There is a single function (HandlePacket()) which essentially recurses down the policy performing actions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external’ side of the process is the facility for acquiring new policies. Currently (!) this takes the form of a listening TCP channel which is used for control, and an LDAP client for downloading new policies from the locations specified by the control channel. This currently requires IP support from the kernel, and so isn’t perfect. Additionally, no encryption or authentication is used – so obviously this isn’t a ready product yet. Future work will include the addition of these, and possibly other techniques for acquiring policies. It is always desirious that policy specification be performed out-of-band anywa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can be though of at three levels. The highest level is the sort of policy you specify at your management console, using some policy language. This is then translated into a cross-platform intermediate language. This is then sent to the GIDS and/or stored on LDA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used for this, for basic cross-platform reasons, although I personally am not a fan. Additionally (especially as I haven’t written the high level stuff yet!) it is human parseable and writable. When Rubicon receives an XML policy it then translates/compiles it into a local platform dependent structure. For performance reasons the XML representation is in structure very similar to the low-level structure, to reduce the processing requirements of the translation. When a policy is finished being compiled, the old policy is swapped out, and replaced with the new one, with a minimal effect on traffic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was the result of my final year degree project. I saw Thomas Munn’s presentation at Defcon 9, and it made me think of possible areas for development in this direction. So, I approached my university with the proposal.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I quickly found that Academia (or the distributed computing part of my computing department anyway) seem to be focused on performing research and producing algorithms and new languages, but aren’t especially keen on developing useful products. However, after a bit of an uphill struggle, they were willing to let me do this. The aim was basically to develop ‘An Extensible Integrated IDS and Firewall’ – which is essentially a G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was going okay until around 7 hours before I was due to give my presentation and demo it. I booted up the machine, heard and load screeching/clanking noise, and saw that the HDD wasn’t being detected. I immediately powered down etc, and eventually tracked it down to a probable head-crash. Bad, but not the end of the world – I thought. As well as local backups via CVS I had periodically produced remote backups burnt onto a CD. So, replace the hard-drive, copy it over, tar xvzf the backup. Gzip error: stdin reached EOF too early (or whatever). Very not good. I checked every backup I had and every one for 3 months gave the same error. Lesson – check your backups as you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ly my supervisor gave me 2 days(!) to try to rewrite the code. Which I did. Sort-of. Basically I hard-coded everything in and offered a subset of the functionality, but it was enough for me to get a 2:1 in my degree, so I was happy. I have included the final report on the CD if anyone is inte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en began rewriting the code properly, incorporating all the additional functionality, simplifications etc identified during the first code write. This second version is what I will discuss 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level representation is basically an N-ary tree comprised of lots of linked lists. Nodes in the policy represent tests (both protocol e.g. IP src address, and analysis e.g. snort), and leaves specify outputs. Each output specifies whether processing of the packet should stop, or the tree return to the last test and continu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OF here specifies that processing stop. The decode(SSL) node allows processing to continue after the SSL is decoded. This isn’t a strictly correct tree, but shows it 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acket (eth saddr 00:11:22:33:44:55, ip saddr=1.2.3.4, SSL, contains an exploit which snort has a si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recurses down the tree. It has the ethernet protocol, so that branch is recursed down. The source address is 00:11:22:33:44:55, and no other tests are available, so the process returns, and descends the other branch. There it finds that the packet contains IP, so that branch is descended into. The saddr is 1.2.3.4 so the downward branch is recursed into. The first (empty) block is branched off (this is in actuality an output which does nothing), and the packet is found to contain SSL so the SSL protocol is decoded. No other outputs or tests are specified, so the process returns to the previous branch. It recurses down this to perform the snort test, testing the payload of the highest protocol decoded (I.e. the SSL decoded contents). The snort plugin returns DANGER due to the exploit found, and so that branch is followed, a log entry made, and the packet dropped. EOF is then encountered and so all further processing is stopp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plugins currently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 inputs. These are all polled periodically. Multiple inputs may be present and so a combination of weighting and priority is used to determine which input to get the next packe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pcap – Basic input courtesy of libpcap. Nuff said really. May have problems with OSs not supporting timeouts on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ipq – Acquire packets from the netfilter QUEUE target. Enables integration of Rubicon with a host already performing some firewalling. Works as both an input and output plugin. Packets are received by netfilter, messed around with and then sent to Rubicon. Rubicon then does it’s magic and sends a response (the output aspect of the plugin) as to whether to drop or allow the packet. If fancy logging or network stuff is required, Rubicon can do this and tell iptables to drop the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oblem with both these is that the packet data is copied across, which is Sllllllloooooooowwwwwwwwwwww. Prelude, and interesting new hybrid IDS, has a modified libpcap which doesn’t copy, but instead just passes over a pointer. I haven’t looked into it, but that’s one possibly area for extra wor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rotocol plugins currently (well, when I code them up!) are the standard TCP/IP on a LAN ones. More will certainly follow, as they’re trivial to wr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analysis’ plugins. The first of these is the pattern-matching IDS code. This is basically the match.c file nicked from snort, and modded to work as a plugin. Most snort rule settings are supported. The rules are set during initialisation, and added to a list of others based on ‘name’, for example all rules to test on traffic to your IIS web server (yeuch) on port 80 (I.e. the IIS web rules) will be given a name (e.g. IIS-Server)(actually it is more like 0x80194820 as it is the address of the analysis call in the policy). Then, when the plugin is called, it is given this name, and performs only relevant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are then returned, and a more full description of results appended (as a PROTOCOL) to the PACKET. This enable the printing of cve numbers etc by the output plugin(%snort.cve-i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some interest and use is the counter plugin. This enable a runtime configured number of long counters to be created, tested and operat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I will add support for timers as well. This will require support for events though, and may result in a redesign of the input side from polled to interrupt dr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rag plugin has already been mentio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s can be classified as network and logging. On the network side you can drop, forward and reject, and also modify contents of any packet field or payload before transmission. The packet length must remain constant though due to sequence number limitations in some protocols. All of this is done courtesy of libne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ogging side, text and binary logging to files and syslog are available, and use printf-like args to print field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FILE, “stdout:Oops, the packet from %ip.saddr; to %ip.daddr; appears to have been flagged suspect. Snort reported is as having cve %snort.cve; and being of type %snort.type;. Have a nice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 have looked into IDXP/IDMEF – the supposed draft standards by the ietf intrusion detection working group. IDMEF is the intrusion detection message format, which is basically an XML encoding of info on the IDS alert and packet etc. This is/can be carried over the IDXP (intrusion detection transfer protocol). There is a library libidxp, to support this, but it’s badly buggy. A new one based on BEEP is being developed, so we shall see. _If_ all the vendors begin to support this, these standards will greatly simplify the task for hybrid IDS and log correlating software, and ultimately will be a ‘good thing’.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see. I only finished my degree 3 weeks ago (I.e. 3 weeks 2 days since I lost everything). I will have stuff working, but may have to just show screen-shot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a bit of background. Hopefully most of this you will be relatively aware of, so I’ll skim through it quite quickl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now to some results. Unfortunately I haven’t got any benchmarks on version 2 yet. Version 1 wasn’t bad though. I’ve only got a 10MB hub, so could only drive it at 8MB for a couple of hours (all-sorts of crap, running in parallel, e.g. multiple nessus etc, with a medium-complex policy) and got 0 packet drop on a 800 d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ort-of check that it was correct in it’s results, I took the SANS 2000 IDS logs from www.snort.org and ran both Rubicon and snort on them, with identical rules (all of them). Snort took about 2 minutes to parse the file and produce the relevant results, Rubicon took a little longer. It did however have a huge memory leak (now fixed), which may have slowed it down. The results from them were identical in terms of al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very scientific, but it was only meant to be a ballpark compari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problems with it. Some of these are design faults, others bugs. The biggest design problem is that it is difficult to deal with tunnelled traffic. I’ve got some ideas on that but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iggest limitations is that it’s a new product, entering a pretty crowded market, full of actually pretty good competitors. Well. sort of, this isn’t strictly true. It is unlikely that in it’s current form Rubicon can compete with big names – where I would say it competes is in labs, research, etc. The ease with which plugins can be developed shouldn’t be underestimated, and the product should work well in most environments. In order to be successful, there must be uptake however. I am going to continue to develop this product, even if I’m the only one to use it, but if a few of the readers of this are interested in using Rubicon in a development or research environment, then I would be interested in hel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n’t concentrate on the shortcomings though….</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my opinion that Rubicon has been and could be, a success in many ways. It is very modular and easy to develop both plugins and rules for. It performs (I think) most of the tasks desired of a GIDS. It had unique functionality until recently in that you could modify traffic inline. Hogwash now allows this though. It has been developed to be cross –platform, and hopefully will be. This has yet to be tested though.</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re can we go from here. Well, there’s the obvious debugging and testing, with some possible expansion. For example, it would be of interest to provide support for different types of IDS analysis. Additionally, Rubicon could be used for other, not necessarily security related, purposes such as QoS and Load balancing.</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I think will happened over then next couple of years in the IDS commun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they need to reduce false positives and provide easier ways to filter out false alerts. I believe this is one of the reasons IDS take-up isn’t as high as it could/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iques are being developed, and will start hitting the market place, for picking up attacks before they have been officially identified and signatures created. This is one area academia may be able to, and indeed to some extent is, doing goo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alysis requirements increase, and bandwidths also increase, there will be an increased need to distribute analysis. This is already being done in the form of firewall NICs, how long before we have NICs with basic NIDS support as well? The big problem here is the difficulty in developing the hardware, so we’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vendors will start standardising things a little, allowing better and easier correlation between multiple NIDS and HIDS, at first locally, then in the enterprise, and then maybe globally. Organisations like the honeynet project are I think already doing this, but I’m not sure about what levels of success they are having apart from to extract marketing-like statistics. Hopefully the results of this correlation at the local and enterprise may be able to be fed back into HIDS/NIDS in order to improve thei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y firm belief that whilst NIDS are and will continue to be a very important technology, there will be an increasing movement towards HIDS. This is due to the increased use of encryption on networks potentially causing problems in picking up signatures etc. Alternately, we will see boxen that sit just after GIDS and perform the encryption/decryption, so that traffic is in plaintext very locally, although this causes many problems of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o’s watching the watcher? As IDSs are security products they probably (?) go through better testing etc than many products, but can we truthfully say we are sure that our HIDS and NIDS are secure? Just because they aren’t listening to a port as a server doesn’t mean they aren’t vulnerable to problems internally. I wonder when these vulnerabilities will be found, as I’m sure they are out there. Some are already being found, e.g. ISS Realsecure DHCP sig, Firestorm IDS IP op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for reading, hope it was of interest. This presentation is slightly different to that which will be (or has been?) presented at defcon. Visit some of the links above for more inf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ïve way to connect to the internet is basically to plug your LAN into it, via a router, modem whatever. As we all know though, that would be stupid for security reasons as much as anything, as this allows any communication from any dir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dd a firewall in between. The purpose of this is to allow desired output from the LAN, and receive responses but to stop undesired traffic both in and out-bound. This is accomplished by basically looking at the packet protocol headers, normally IP/ICMP/UDP/TC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pection may additionally take account of the network state, to help determine whether a packet is related to an established connection or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cannot normally understand traffic they haven’t been designed for, especially above the session layer (I.e. above UDP/TCP). Obviously, they cannot understand traffic which is encrypted or often traffic that is tunnelled, although this is less true the more money you spend on the firew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get around the limitations of the firewall for higher level protocols is to use a proxy. This is essentially an Application level filter. The normal way for these to work is to (possibly transparently) sit between the LAN and the internet, intercept connections from the LAN (and possibly the internet), and to forward and filter the traffic. This is normally performed by the proxy accepting a connection from the LAN, performing the desired connection with the remote host, then returning the results, filtering and caching as desi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no such thing as a 100% secure network, and so you need to know where and when things are going wrong. One key way of doing this is through Intrusion Detection systems. These take several for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based: which sit on a host watching system calls, file integrity, logs et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based: sit on a network segment sniffing traffic and looking for ‘dodgy’ stuf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A combination of th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for identifying dodgy traffic and actions vary. Initial work was on pattern/signature matching techniques. however, as the AV industry found out, this suffers from serious shortcomings in detecting new attacks, and producing large numbers of false positives, therefore current development in many areas is on other techniques, including heuristics, statistical, knowledge based and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time, alerts etc are then passed on to a human for reaction. This can take a substantial (especially in computer terms) period of time to be dealt with. This is especially true as IDS technologies are not 100% accurate, they produce both false positives (incorrectly warning about something), and false negatives (not warning about something they should have). False positives are the bane of the sysadmins existence, as it means that they have to spend a great deal of time verifying whether the traffic was indeed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NIDS here, as HIDS are a totally different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8C1E1-4EEB-40C4-AAEF-A8DB4D7B4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FF8F-AB8C-4734-8D0F-69F62F98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292ED-82B5-4F23-A3A8-83860C919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B9DBA-02DB-4644-831C-AB7D67A37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D5745-9B53-471E-85FA-983F8B1A9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9860-6B4F-4535-BFB2-3C6756EE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28399-9DA3-4E77-8E36-87BBE944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98D2-94C4-4FB5-A649-1601CA741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0D93-3CD3-445A-B904-278D3E17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49D0F-3CB6-46EB-870C-0368069F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617E-F576-4CAE-8BFC-84C49C89C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42BC-15F2-4633-8F2F-B7D7994EB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5C9F-F8C4-438F-88DC-B22905AA0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bicon: An Extensible Gateway Intrusion Detection Syste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an Peter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DSs can’t do.</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 an attack.</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a wholly new attack (although newer approaches and techniques are getting better at this, e.g. Heuristics, Statistical, Anoma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no false positives or negati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irewall-style filtering off IDS resul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he response time between Detection and Reaction (by removing the human el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mplex functionality e.g. dynamic rerouting of attackers into honeyn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e control packets (e.g. TCP Res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based on log file outpu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 firewall outputs around IDS c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IDS facilities into Firewal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bespoke, integ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State of the Art:-</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research in Academia</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wraps Snort ID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commercial offerings include some kind of response (BlackICE, Checkpoin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antec and Realsecure have Enterprise IDS which can run commands, e.g. to modify firewall rul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ly, GIDS functionality has been added by several vend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Shortcomings &amp; Limit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se Positiv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ial of Serv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power and Band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Aim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IDS and Firewal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esponse del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inline packet filterin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 desig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Extensi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future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19" name=""/>
          <p:cNvGrpSpPr/>
          <p:nvPr/>
        </p:nvGrpSpPr>
        <p:grpSpPr>
          <a:xfrm>
            <a:off x="846000" y="3124080"/>
            <a:ext cx="7535880" cy="2441160"/>
            <a:chOff x="846000" y="3124080"/>
            <a:chExt cx="7535880" cy="2441160"/>
          </a:xfrm>
        </p:grpSpPr>
        <p:sp>
          <p:nvSpPr>
            <p:cNvPr id="120"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21" name=""/>
            <p:cNvGrpSpPr/>
            <p:nvPr/>
          </p:nvGrpSpPr>
          <p:grpSpPr>
            <a:xfrm>
              <a:off x="6172200" y="3124080"/>
              <a:ext cx="2209680" cy="1447920"/>
              <a:chOff x="6172200" y="3124080"/>
              <a:chExt cx="2209680" cy="1447920"/>
            </a:xfrm>
          </p:grpSpPr>
          <p:graphicFrame>
            <p:nvGraphicFramePr>
              <p:cNvPr id="122" name=""/>
              <p:cNvGraphicFramePr/>
              <p:nvPr/>
            </p:nvGraphicFramePr>
            <p:xfrm>
              <a:off x="6172200" y="3124080"/>
              <a:ext cx="2209680" cy="1447920"/>
            </p:xfrm>
            <a:graphic>
              <a:graphicData uri="http://schemas.openxmlformats.org/presentationml/2006/ole">
                <p:oleObj r:id="rId1" spid="">
                  <p:embed/>
                  <p:pic>
                    <p:nvPicPr>
                      <p:cNvPr id="123"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24"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25"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26"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27" name=""/>
          <p:cNvCxnSpPr>
            <a:stCxn id="126" idx="3"/>
            <a:endCxn id="120" idx="1"/>
          </p:cNvCxnSpPr>
          <p:nvPr/>
        </p:nvCxnSpPr>
        <p:spPr>
          <a:xfrm>
            <a:off x="2555640" y="3847680"/>
            <a:ext cx="873720" cy="1080"/>
          </a:xfrm>
          <a:prstGeom prst="straightConnector1">
            <a:avLst/>
          </a:prstGeom>
          <a:ln w="9360">
            <a:solidFill>
              <a:srgbClr val="000000"/>
            </a:solidFill>
            <a:miter/>
          </a:ln>
        </p:spPr>
      </p:cxnSp>
      <p:cxnSp>
        <p:nvCxnSpPr>
          <p:cNvPr id="128" name=""/>
          <p:cNvCxnSpPr>
            <a:stCxn id="120" idx="3"/>
          </p:cNvCxnSpPr>
          <p:nvPr/>
        </p:nvCxnSpPr>
        <p:spPr>
          <a:xfrm>
            <a:off x="4995720" y="3847680"/>
            <a:ext cx="1177200" cy="1080"/>
          </a:xfrm>
          <a:prstGeom prst="straightConnector1">
            <a:avLst/>
          </a:prstGeom>
          <a:ln w="9360">
            <a:solidFill>
              <a:srgbClr val="000000"/>
            </a:solidFill>
            <a:miter/>
          </a:ln>
        </p:spPr>
      </p:cxnSp>
      <p:cxnSp>
        <p:nvCxnSpPr>
          <p:cNvPr id="129" name=""/>
          <p:cNvCxnSpPr>
            <a:stCxn id="125" idx="0"/>
            <a:endCxn id="120" idx="2"/>
          </p:cNvCxnSpPr>
          <p:nvPr/>
        </p:nvCxnSpPr>
        <p:spPr>
          <a:xfrm flipV="1">
            <a:off x="4211640" y="4080600"/>
            <a:ext cx="2160" cy="1024920"/>
          </a:xfrm>
          <a:prstGeom prst="straightConnector1">
            <a:avLst/>
          </a:prstGeom>
          <a:ln w="9360">
            <a:solidFill>
              <a:srgbClr val="000000"/>
            </a:solidFill>
            <a:miter/>
          </a:ln>
        </p:spPr>
      </p:cxnSp>
      <p:sp>
        <p:nvSpPr>
          <p:cNvPr id="130" name=""/>
          <p:cNvSpPr/>
          <p:nvPr/>
        </p:nvSpPr>
        <p:spPr>
          <a:xfrm>
            <a:off x="1905120" y="297180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904760" y="327672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34" name=""/>
          <p:cNvGrpSpPr/>
          <p:nvPr/>
        </p:nvGrpSpPr>
        <p:grpSpPr>
          <a:xfrm>
            <a:off x="846000" y="3124080"/>
            <a:ext cx="7535880" cy="2441160"/>
            <a:chOff x="846000" y="3124080"/>
            <a:chExt cx="7535880" cy="2441160"/>
          </a:xfrm>
        </p:grpSpPr>
        <p:sp>
          <p:nvSpPr>
            <p:cNvPr id="135"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36" name=""/>
            <p:cNvGrpSpPr/>
            <p:nvPr/>
          </p:nvGrpSpPr>
          <p:grpSpPr>
            <a:xfrm>
              <a:off x="6172200" y="3124080"/>
              <a:ext cx="2209680" cy="1447920"/>
              <a:chOff x="6172200" y="3124080"/>
              <a:chExt cx="2209680" cy="1447920"/>
            </a:xfrm>
          </p:grpSpPr>
          <p:graphicFrame>
            <p:nvGraphicFramePr>
              <p:cNvPr id="137" name=""/>
              <p:cNvGraphicFramePr/>
              <p:nvPr/>
            </p:nvGraphicFramePr>
            <p:xfrm>
              <a:off x="6172200" y="3124080"/>
              <a:ext cx="2209680" cy="1447920"/>
            </p:xfrm>
            <a:graphic>
              <a:graphicData uri="http://schemas.openxmlformats.org/presentationml/2006/ole">
                <p:oleObj r:id="rId1" spid="">
                  <p:embed/>
                  <p:pic>
                    <p:nvPicPr>
                      <p:cNvPr id="138"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39"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40"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41"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42" name=""/>
          <p:cNvCxnSpPr>
            <a:stCxn id="141" idx="3"/>
            <a:endCxn id="135" idx="1"/>
          </p:cNvCxnSpPr>
          <p:nvPr/>
        </p:nvCxnSpPr>
        <p:spPr>
          <a:xfrm>
            <a:off x="2555640" y="3847680"/>
            <a:ext cx="873720" cy="1080"/>
          </a:xfrm>
          <a:prstGeom prst="straightConnector1">
            <a:avLst/>
          </a:prstGeom>
          <a:ln w="9360">
            <a:solidFill>
              <a:srgbClr val="000000"/>
            </a:solidFill>
            <a:miter/>
          </a:ln>
        </p:spPr>
      </p:cxnSp>
      <p:cxnSp>
        <p:nvCxnSpPr>
          <p:cNvPr id="143" name=""/>
          <p:cNvCxnSpPr>
            <a:stCxn id="135" idx="3"/>
          </p:cNvCxnSpPr>
          <p:nvPr/>
        </p:nvCxnSpPr>
        <p:spPr>
          <a:xfrm>
            <a:off x="4995720" y="3847680"/>
            <a:ext cx="1177200" cy="1080"/>
          </a:xfrm>
          <a:prstGeom prst="straightConnector1">
            <a:avLst/>
          </a:prstGeom>
          <a:ln w="9360">
            <a:solidFill>
              <a:srgbClr val="000000"/>
            </a:solidFill>
            <a:miter/>
          </a:ln>
        </p:spPr>
      </p:cxnSp>
      <p:cxnSp>
        <p:nvCxnSpPr>
          <p:cNvPr id="144" name=""/>
          <p:cNvCxnSpPr>
            <a:stCxn id="140" idx="0"/>
            <a:endCxn id="135" idx="2"/>
          </p:cNvCxnSpPr>
          <p:nvPr/>
        </p:nvCxnSpPr>
        <p:spPr>
          <a:xfrm flipV="1">
            <a:off x="4211640" y="4080600"/>
            <a:ext cx="2160" cy="1024920"/>
          </a:xfrm>
          <a:prstGeom prst="straightConnector1">
            <a:avLst/>
          </a:prstGeom>
          <a:ln w="9360">
            <a:solidFill>
              <a:srgbClr val="000000"/>
            </a:solidFill>
            <a:miter/>
          </a:ln>
        </p:spPr>
      </p:cxnSp>
      <p:sp>
        <p:nvSpPr>
          <p:cNvPr id="145"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5028840" y="2743200"/>
            <a:ext cx="152640" cy="838080"/>
            <a:chOff x="5028840" y="2743200"/>
            <a:chExt cx="152640" cy="838080"/>
          </a:xfrm>
        </p:grpSpPr>
        <p:sp>
          <p:nvSpPr>
            <p:cNvPr id="147" name=""/>
            <p:cNvSpPr/>
            <p:nvPr/>
          </p:nvSpPr>
          <p:spPr>
            <a:xfrm>
              <a:off x="5181480" y="274320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028840" y="3429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flipH="1">
              <a:off x="5028840" y="32767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flipH="1">
              <a:off x="5028840" y="312408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H="1">
              <a:off x="5028840" y="29718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a:off x="5028840" y="28195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55" name=""/>
          <p:cNvGrpSpPr/>
          <p:nvPr/>
        </p:nvGrpSpPr>
        <p:grpSpPr>
          <a:xfrm>
            <a:off x="846000" y="3124080"/>
            <a:ext cx="7535880" cy="2441160"/>
            <a:chOff x="846000" y="3124080"/>
            <a:chExt cx="7535880" cy="2441160"/>
          </a:xfrm>
        </p:grpSpPr>
        <p:sp>
          <p:nvSpPr>
            <p:cNvPr id="156"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57" name=""/>
            <p:cNvGrpSpPr/>
            <p:nvPr/>
          </p:nvGrpSpPr>
          <p:grpSpPr>
            <a:xfrm>
              <a:off x="6172200" y="3124080"/>
              <a:ext cx="2209680" cy="1447920"/>
              <a:chOff x="6172200" y="3124080"/>
              <a:chExt cx="2209680" cy="1447920"/>
            </a:xfrm>
          </p:grpSpPr>
          <p:graphicFrame>
            <p:nvGraphicFramePr>
              <p:cNvPr id="158" name=""/>
              <p:cNvGraphicFramePr/>
              <p:nvPr/>
            </p:nvGraphicFramePr>
            <p:xfrm>
              <a:off x="6172200" y="3124080"/>
              <a:ext cx="2209680" cy="1447920"/>
            </p:xfrm>
            <a:graphic>
              <a:graphicData uri="http://schemas.openxmlformats.org/presentationml/2006/ole">
                <p:oleObj r:id="rId1" spid="">
                  <p:embed/>
                  <p:pic>
                    <p:nvPicPr>
                      <p:cNvPr id="159"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60"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61"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62"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63" name=""/>
          <p:cNvCxnSpPr>
            <a:stCxn id="162" idx="3"/>
            <a:endCxn id="156" idx="1"/>
          </p:cNvCxnSpPr>
          <p:nvPr/>
        </p:nvCxnSpPr>
        <p:spPr>
          <a:xfrm>
            <a:off x="2555640" y="3847680"/>
            <a:ext cx="873720" cy="1080"/>
          </a:xfrm>
          <a:prstGeom prst="straightConnector1">
            <a:avLst/>
          </a:prstGeom>
          <a:ln w="9360">
            <a:solidFill>
              <a:srgbClr val="000000"/>
            </a:solidFill>
            <a:miter/>
          </a:ln>
        </p:spPr>
      </p:cxnSp>
      <p:cxnSp>
        <p:nvCxnSpPr>
          <p:cNvPr id="164" name=""/>
          <p:cNvCxnSpPr>
            <a:stCxn id="156" idx="3"/>
          </p:cNvCxnSpPr>
          <p:nvPr/>
        </p:nvCxnSpPr>
        <p:spPr>
          <a:xfrm>
            <a:off x="4995720" y="3847680"/>
            <a:ext cx="1177200" cy="1080"/>
          </a:xfrm>
          <a:prstGeom prst="straightConnector1">
            <a:avLst/>
          </a:prstGeom>
          <a:ln w="9360">
            <a:solidFill>
              <a:srgbClr val="000000"/>
            </a:solidFill>
            <a:miter/>
          </a:ln>
        </p:spPr>
      </p:cxnSp>
      <p:cxnSp>
        <p:nvCxnSpPr>
          <p:cNvPr id="165" name=""/>
          <p:cNvCxnSpPr>
            <a:stCxn id="161" idx="0"/>
            <a:endCxn id="156" idx="2"/>
          </p:cNvCxnSpPr>
          <p:nvPr/>
        </p:nvCxnSpPr>
        <p:spPr>
          <a:xfrm flipV="1">
            <a:off x="4211640" y="4080600"/>
            <a:ext cx="2160" cy="1024920"/>
          </a:xfrm>
          <a:prstGeom prst="straightConnector1">
            <a:avLst/>
          </a:prstGeom>
          <a:ln w="9360">
            <a:solidFill>
              <a:srgbClr val="000000"/>
            </a:solidFill>
            <a:miter/>
          </a:ln>
        </p:spPr>
      </p:cxnSp>
      <p:sp>
        <p:nvSpPr>
          <p:cNvPr id="166"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8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4864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86400" y="350532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03120" y="304812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73" name=""/>
          <p:cNvGrpSpPr/>
          <p:nvPr/>
        </p:nvGrpSpPr>
        <p:grpSpPr>
          <a:xfrm>
            <a:off x="846000" y="3124080"/>
            <a:ext cx="7535880" cy="2441160"/>
            <a:chOff x="846000" y="3124080"/>
            <a:chExt cx="7535880" cy="2441160"/>
          </a:xfrm>
        </p:grpSpPr>
        <p:sp>
          <p:nvSpPr>
            <p:cNvPr id="174"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75" name=""/>
            <p:cNvGrpSpPr/>
            <p:nvPr/>
          </p:nvGrpSpPr>
          <p:grpSpPr>
            <a:xfrm>
              <a:off x="6172200" y="3124080"/>
              <a:ext cx="2209680" cy="1447920"/>
              <a:chOff x="6172200" y="3124080"/>
              <a:chExt cx="2209680" cy="1447920"/>
            </a:xfrm>
          </p:grpSpPr>
          <p:graphicFrame>
            <p:nvGraphicFramePr>
              <p:cNvPr id="176" name=""/>
              <p:cNvGraphicFramePr/>
              <p:nvPr/>
            </p:nvGraphicFramePr>
            <p:xfrm>
              <a:off x="6172200" y="3124080"/>
              <a:ext cx="2209680" cy="1447920"/>
            </p:xfrm>
            <a:graphic>
              <a:graphicData uri="http://schemas.openxmlformats.org/presentationml/2006/ole">
                <p:oleObj r:id="rId1" spid="">
                  <p:embed/>
                  <p:pic>
                    <p:nvPicPr>
                      <p:cNvPr id="177"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78"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79"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80"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81" name=""/>
          <p:cNvCxnSpPr>
            <a:stCxn id="180" idx="3"/>
            <a:endCxn id="174" idx="1"/>
          </p:cNvCxnSpPr>
          <p:nvPr/>
        </p:nvCxnSpPr>
        <p:spPr>
          <a:xfrm>
            <a:off x="2555640" y="3847680"/>
            <a:ext cx="873720" cy="1080"/>
          </a:xfrm>
          <a:prstGeom prst="straightConnector1">
            <a:avLst/>
          </a:prstGeom>
          <a:ln w="9360">
            <a:solidFill>
              <a:srgbClr val="000000"/>
            </a:solidFill>
            <a:miter/>
          </a:ln>
        </p:spPr>
      </p:cxnSp>
      <p:cxnSp>
        <p:nvCxnSpPr>
          <p:cNvPr id="182" name=""/>
          <p:cNvCxnSpPr>
            <a:stCxn id="174" idx="3"/>
          </p:cNvCxnSpPr>
          <p:nvPr/>
        </p:nvCxnSpPr>
        <p:spPr>
          <a:xfrm>
            <a:off x="4995720" y="3847680"/>
            <a:ext cx="1177200" cy="1080"/>
          </a:xfrm>
          <a:prstGeom prst="straightConnector1">
            <a:avLst/>
          </a:prstGeom>
          <a:ln w="9360">
            <a:solidFill>
              <a:srgbClr val="000000"/>
            </a:solidFill>
            <a:miter/>
          </a:ln>
        </p:spPr>
      </p:cxnSp>
      <p:cxnSp>
        <p:nvCxnSpPr>
          <p:cNvPr id="183" name=""/>
          <p:cNvCxnSpPr>
            <a:stCxn id="179" idx="0"/>
            <a:endCxn id="174" idx="2"/>
          </p:cNvCxnSpPr>
          <p:nvPr/>
        </p:nvCxnSpPr>
        <p:spPr>
          <a:xfrm flipV="1">
            <a:off x="4211640" y="4080600"/>
            <a:ext cx="2160" cy="1024920"/>
          </a:xfrm>
          <a:prstGeom prst="straightConnector1">
            <a:avLst/>
          </a:prstGeom>
          <a:ln w="9360">
            <a:solidFill>
              <a:srgbClr val="000000"/>
            </a:solidFill>
            <a:miter/>
          </a:ln>
        </p:spPr>
      </p:cxnSp>
      <p:sp>
        <p:nvSpPr>
          <p:cNvPr id="184" name=""/>
          <p:cNvSpPr/>
          <p:nvPr/>
        </p:nvSpPr>
        <p:spPr>
          <a:xfrm flipV="1">
            <a:off x="5105520" y="4343040"/>
            <a:ext cx="0" cy="685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05520" y="32767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410080" y="3505320"/>
            <a:ext cx="9144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10080" y="4038480"/>
            <a:ext cx="0" cy="106704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79440" y="4038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Design – High/Low Leve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Design</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basic IDS and firewall functionali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filtering based on IDS-style analys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itself be secur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sta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have reasonable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components" descr=""/>
          <p:cNvPicPr/>
          <p:nvPr/>
        </p:nvPicPr>
        <p:blipFill>
          <a:blip r:embed="rId1"/>
          <a:stretch/>
        </p:blipFill>
        <p:spPr>
          <a:xfrm>
            <a:off x="1295280" y="2057400"/>
            <a:ext cx="6553440" cy="4095720"/>
          </a:xfrm>
          <a:prstGeom prst="rect">
            <a:avLst/>
          </a:prstGeom>
          <a:ln w="0">
            <a:noFill/>
          </a:ln>
        </p:spPr>
      </p:pic>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 High Level (HL)</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Core</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s, querying the policy and calling the required plugi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s data to a PACKET structure, which wraps the packet dat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ed data includes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otocol is uniquely na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ACKET</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packe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s to linked list of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pointers to packet payloa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ROTOCOL</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ded Protocol Header (and Foo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ly just a pointer to relevant part of pack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point to other Protocol data inste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ecrypted traffic from SSL paylo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ression - SSL</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SL – Encrypt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common ke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Exchang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 Client encrypt Ks with Servers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e-Hellman – Uses combination of pow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if RSA, and IDS has servers Private ke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sldump &amp; openssl to decod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 Security and Processing Po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UML_plugin" descr=""/>
          <p:cNvPicPr/>
          <p:nvPr/>
        </p:nvPicPr>
        <p:blipFill>
          <a:blip r:embed="rId1"/>
          <a:stretch/>
        </p:blipFill>
        <p:spPr>
          <a:xfrm>
            <a:off x="685800" y="1905120"/>
            <a:ext cx="7696080" cy="3733560"/>
          </a:xfrm>
          <a:prstGeom prst="rect">
            <a:avLst/>
          </a:prstGeom>
          <a:ln w="0">
            <a:noFill/>
          </a:ln>
        </p:spPr>
      </p:pic>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g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ex’ed shared pointer to compiled representatio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ePacket() function for handling received packet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trol Chann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AP Distributed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olicy</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Level – Unimplemen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te Level – XML version of low-level representation. 1:1 mapping. Stored on LDA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Level – Linked list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compati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te Order, character encoding, variable siz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readable/write-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fast translation on Rubicon hos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apping between low level structure and X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t Imperial College, Lond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graduated (ish). Hurra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con 9 – Thomas J Munn (Active I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a like algorithms not produc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crash (~3am 17 June 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s screwed (gz corrupte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on: Test your backup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Rewrite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 proto=“ip” src=“192.168.0.1”&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 name=“IDS” args=“all”&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warning”&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FILE”&gt;WARN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NET-FWD”&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for fast recursion/desc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a very large tre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s represent tests and results, leaves are outpu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es specify whether to stop processing when reached, or to 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pic>
        <p:nvPicPr>
          <p:cNvPr id="216" name="policy_ll" descr=""/>
          <p:cNvPicPr/>
          <p:nvPr/>
        </p:nvPicPr>
        <p:blipFill>
          <a:blip r:embed="rId1"/>
          <a:stretch/>
        </p:blipFill>
        <p:spPr>
          <a:xfrm>
            <a:off x="1371600" y="1828800"/>
            <a:ext cx="6324480" cy="441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olicy_ex" descr=""/>
          <p:cNvPicPr/>
          <p:nvPr/>
        </p:nvPicPr>
        <p:blipFill>
          <a:blip r:embed="rId1"/>
          <a:stretch/>
        </p:blipFill>
        <p:spPr>
          <a:xfrm>
            <a:off x="1219320" y="1676520"/>
            <a:ext cx="6435720" cy="4136760"/>
          </a:xfrm>
          <a:prstGeom prst="rect">
            <a:avLst/>
          </a:prstGeom>
          <a:ln w="0">
            <a:noFill/>
          </a:ln>
        </p:spPr>
      </p:pic>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Poll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pcap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network device access (timeout=0,count=1)</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ipq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packets for handling from netfilter/iptabl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Input and Output plugi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Packet data copied = s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P, TCP, UDP, ICMP</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printing and test making and special tests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alid checksum?</a:t>
            </a:r>
            <a:endParaRPr b="0" lang="en-US" sz="1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on Detection (signature/pattern-match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rt algorithms (Boyer-Moore) (match.c)</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sed with tuples of (set-name, ru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specific set-name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rform IIS rules on the IIS machi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policy to operate and test long’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s: = + - / * ^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 != &lt; &gt; &lt;= &g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ragmentation (IP and Etherne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ily based on snort. defrag2 plugi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whether is fragged or no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ragged, reassemble, when done place on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Network)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d via libnet (the Mike Schiffman on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network (Drop, accept, reject)</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uman device names, and map to /dev/???</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mangl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packet cont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ayload or testable header fiel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resize due to sequence numb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Loggin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File logg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rintf style args to call plugins to print any testable field</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log (Unix system logger)</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log, except you can set syslog priority etc</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XP (Intrusion Detection Transfer protocol)</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RFC based on BEEP(Blocks Extensible Exchange Proto)</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s IDMEF data (which is XM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even get it working one day!</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 TIME!!!!</a:t>
            </a:r>
            <a:endParaRPr b="0" lang="en-US" sz="4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efu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ng IDSs and 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ologies an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mark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and Limit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Benchmark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available yet due to code rewri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versio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Testing </a:t>
            </a:r>
            <a:endParaRPr b="0" lang="en-US" sz="2800" spc="-1" strike="noStrike">
              <a:solidFill>
                <a:srgbClr val="000000"/>
              </a:solidFill>
              <a:latin typeface="Times New Roman"/>
            </a:endParaRPr>
          </a:p>
          <a:p>
            <a:pPr lvl="3" marL="16002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 Drop @ 8MBps (dumping all to file in text)</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comparis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MB file parsed and IDS’d (SANS 200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2 minutes 45 second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2 minute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was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Problems and Limitation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ccessing tunnelled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bug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lots more w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good uptake to be useful</a:t>
            </a:r>
            <a:endParaRPr b="0" lang="en-US" sz="3200" spc="-1" strike="noStrike">
              <a:solidFill>
                <a:srgbClr val="000000"/>
              </a:solidFill>
              <a:latin typeface="Times New Roman"/>
            </a:endParaRPr>
          </a:p>
        </p:txBody>
      </p:sp>
      <p:sp>
        <p:nvSpPr>
          <p:cNvPr id="237" name=""/>
          <p:cNvSpPr/>
          <p:nvPr/>
        </p:nvSpPr>
        <p:spPr>
          <a:xfrm>
            <a:off x="3964320" y="5257800"/>
            <a:ext cx="12232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Success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s packet filtering, and mo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functionality (mang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gwash apparently now does thi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cross-platform (in theory at lea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to develop plugins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Further Work</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debugging, testing, and expans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I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Balanc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Serv QoS (e.g. RSVP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ID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false positiv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up new attack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analysis, e.g. firewall NIC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correlation between HIDS/NID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tandardisa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HIDS due to encryp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for NIDS/HI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t>
            </a:r>
            <a:endParaRPr b="0" lang="en-US" sz="4400" spc="-1" strike="noStrike">
              <a:solidFill>
                <a:srgbClr val="000000"/>
              </a:solidFill>
              <a:latin typeface="Times New Roman"/>
            </a:endParaRPr>
          </a:p>
        </p:txBody>
      </p:sp>
      <p:sp>
        <p:nvSpPr>
          <p:cNvPr id="245"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Homepage –sourceforge.net/projects/Rubicon/</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 www.snort.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 hogwash.sourceforge.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MEF/IDXP-www.ietf.org/ids.by.wg/idwg.html</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idxp - idxp.codefactory.se</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pcap - www.tcpdump.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tables/libipq - www.netfilter.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net - www.packetfactory.net/lib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s - rfc.net</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Design</a:t>
            </a:r>
            <a:endParaRPr b="0" lang="en-US" sz="3200" spc="-1" strike="noStrike">
              <a:solidFill>
                <a:srgbClr val="000000"/>
              </a:solidFill>
              <a:latin typeface="Times New Roman"/>
            </a:endParaRPr>
          </a:p>
        </p:txBody>
      </p:sp>
      <p:sp>
        <p:nvSpPr>
          <p:cNvPr id="58"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59" name=""/>
          <p:cNvGrpSpPr/>
          <p:nvPr/>
        </p:nvGrpSpPr>
        <p:grpSpPr>
          <a:xfrm>
            <a:off x="5638680" y="3200400"/>
            <a:ext cx="2210040" cy="1447920"/>
            <a:chOff x="5638680" y="3200400"/>
            <a:chExt cx="2210040" cy="1447920"/>
          </a:xfrm>
        </p:grpSpPr>
        <p:graphicFrame>
          <p:nvGraphicFramePr>
            <p:cNvPr id="60" name=""/>
            <p:cNvGraphicFramePr/>
            <p:nvPr/>
          </p:nvGraphicFramePr>
          <p:xfrm>
            <a:off x="5638680" y="3200400"/>
            <a:ext cx="2210040" cy="1447920"/>
          </p:xfrm>
          <a:graphic>
            <a:graphicData uri="http://schemas.openxmlformats.org/presentationml/2006/ole">
              <p:oleObj r:id="rId1" spid="">
                <p:embed/>
                <p:pic>
                  <p:nvPicPr>
                    <p:cNvPr id="61"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62"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63" name=""/>
          <p:cNvCxnSpPr>
            <a:stCxn id="58" idx="3"/>
          </p:cNvCxnSpPr>
          <p:nvPr/>
        </p:nvCxnSpPr>
        <p:spPr>
          <a:xfrm>
            <a:off x="2344680" y="3924000"/>
            <a:ext cx="3294720" cy="1080"/>
          </a:xfrm>
          <a:prstGeom prst="straightConnector1">
            <a:avLst/>
          </a:prstGeom>
          <a:ln w="9360">
            <a:solidFill>
              <a:srgbClr val="000000"/>
            </a:solidFill>
            <a:miter/>
          </a:ln>
        </p:spPr>
      </p:cxnSp>
      <p:sp>
        <p:nvSpPr>
          <p:cNvPr id="64" name=""/>
          <p:cNvSpPr/>
          <p:nvPr/>
        </p:nvSpPr>
        <p:spPr>
          <a:xfrm>
            <a:off x="2362320" y="3429000"/>
            <a:ext cx="3276360" cy="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ed Design</a:t>
            </a:r>
            <a:endParaRPr b="0" lang="en-US" sz="3200" spc="-1" strike="noStrike">
              <a:solidFill>
                <a:srgbClr val="000000"/>
              </a:solidFill>
              <a:latin typeface="Times New Roman"/>
            </a:endParaRPr>
          </a:p>
        </p:txBody>
      </p:sp>
      <p:sp>
        <p:nvSpPr>
          <p:cNvPr id="67"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68" name=""/>
          <p:cNvGrpSpPr/>
          <p:nvPr/>
        </p:nvGrpSpPr>
        <p:grpSpPr>
          <a:xfrm>
            <a:off x="5638680" y="3200400"/>
            <a:ext cx="2210040" cy="1447920"/>
            <a:chOff x="5638680" y="3200400"/>
            <a:chExt cx="2210040" cy="1447920"/>
          </a:xfrm>
        </p:grpSpPr>
        <p:graphicFrame>
          <p:nvGraphicFramePr>
            <p:cNvPr id="69" name=""/>
            <p:cNvGraphicFramePr/>
            <p:nvPr/>
          </p:nvGraphicFramePr>
          <p:xfrm>
            <a:off x="5638680" y="3200400"/>
            <a:ext cx="2210040" cy="1447920"/>
          </p:xfrm>
          <a:graphic>
            <a:graphicData uri="http://schemas.openxmlformats.org/presentationml/2006/ole">
              <p:oleObj r:id="rId1" spid="">
                <p:embed/>
                <p:pic>
                  <p:nvPicPr>
                    <p:cNvPr id="70"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71"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72" name=""/>
          <p:cNvCxnSpPr>
            <a:stCxn id="67" idx="3"/>
          </p:cNvCxnSpPr>
          <p:nvPr/>
        </p:nvCxnSpPr>
        <p:spPr>
          <a:xfrm>
            <a:off x="2344680" y="3924000"/>
            <a:ext cx="3294720" cy="1080"/>
          </a:xfrm>
          <a:prstGeom prst="straightConnector1">
            <a:avLst/>
          </a:prstGeom>
          <a:ln w="9360">
            <a:solidFill>
              <a:srgbClr val="000000"/>
            </a:solidFill>
            <a:miter/>
          </a:ln>
        </p:spPr>
      </p:cxnSp>
      <p:sp>
        <p:nvSpPr>
          <p:cNvPr id="73" name=""/>
          <p:cNvSpPr/>
          <p:nvPr/>
        </p:nvSpPr>
        <p:spPr>
          <a:xfrm>
            <a:off x="3206880" y="3657600"/>
            <a:ext cx="17200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74" name=""/>
          <p:cNvSpPr/>
          <p:nvPr/>
        </p:nvSpPr>
        <p:spPr>
          <a:xfrm>
            <a:off x="2362320" y="312408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2361960" y="342900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267080" y="4648320"/>
            <a:ext cx="13716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3962160" y="4191120"/>
            <a:ext cx="152640" cy="838080"/>
            <a:chOff x="3962160" y="4191120"/>
            <a:chExt cx="152640" cy="838080"/>
          </a:xfrm>
        </p:grpSpPr>
        <p:sp>
          <p:nvSpPr>
            <p:cNvPr id="78" name=""/>
            <p:cNvSpPr/>
            <p:nvPr/>
          </p:nvSpPr>
          <p:spPr>
            <a:xfrm>
              <a:off x="4114800" y="41911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962160" y="48769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H="1">
              <a:off x="3962160" y="47246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 name=""/>
            <p:cNvSpPr/>
            <p:nvPr/>
          </p:nvSpPr>
          <p:spPr>
            <a:xfrm flipH="1">
              <a:off x="3962160" y="4572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H="1">
              <a:off x="3962160" y="44197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H="1">
              <a:off x="3962160" y="42674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wall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les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filtering decisions based on content of each packet alon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ful</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s network state, and uses for decision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Can allow ‘related’ and ‘established’ traffic</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com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understand traffic data (i.e. above tcp/ud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handle encrypted or some tunnelled traff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Prox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ilter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man in transa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ecurity and efficiency</a:t>
            </a:r>
            <a:endParaRPr b="0" lang="en-US" sz="2800" spc="-1" strike="noStrike">
              <a:solidFill>
                <a:srgbClr val="000000"/>
              </a:solidFill>
              <a:latin typeface="Times New Roman"/>
            </a:endParaRPr>
          </a:p>
        </p:txBody>
      </p:sp>
      <p:grpSp>
        <p:nvGrpSpPr>
          <p:cNvPr id="88" name=""/>
          <p:cNvGrpSpPr/>
          <p:nvPr/>
        </p:nvGrpSpPr>
        <p:grpSpPr>
          <a:xfrm>
            <a:off x="3741480" y="3657600"/>
            <a:ext cx="4335840" cy="1526760"/>
            <a:chOff x="3741480" y="3657600"/>
            <a:chExt cx="4335840" cy="1526760"/>
          </a:xfrm>
        </p:grpSpPr>
        <p:sp>
          <p:nvSpPr>
            <p:cNvPr id="89" name=""/>
            <p:cNvSpPr/>
            <p:nvPr/>
          </p:nvSpPr>
          <p:spPr>
            <a:xfrm>
              <a:off x="3741480" y="419112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90" name=""/>
            <p:cNvGrpSpPr/>
            <p:nvPr/>
          </p:nvGrpSpPr>
          <p:grpSpPr>
            <a:xfrm>
              <a:off x="5867640" y="3657600"/>
              <a:ext cx="2209680" cy="1447920"/>
              <a:chOff x="5867640" y="3657600"/>
              <a:chExt cx="2209680" cy="1447920"/>
            </a:xfrm>
          </p:grpSpPr>
          <p:graphicFrame>
            <p:nvGraphicFramePr>
              <p:cNvPr id="91" name=""/>
              <p:cNvGraphicFramePr/>
              <p:nvPr/>
            </p:nvGraphicFramePr>
            <p:xfrm>
              <a:off x="5867640" y="3657600"/>
              <a:ext cx="2209680" cy="1447920"/>
            </p:xfrm>
            <a:graphic>
              <a:graphicData uri="http://schemas.openxmlformats.org/presentationml/2006/ole">
                <p:oleObj r:id="rId1" spid="">
                  <p:embed/>
                  <p:pic>
                    <p:nvPicPr>
                      <p:cNvPr id="92" name="" descr=""/>
                      <p:cNvPicPr/>
                      <p:nvPr/>
                    </p:nvPicPr>
                    <p:blipFill>
                      <a:blip r:embed="rId2"/>
                      <a:stretch/>
                    </p:blipFill>
                    <p:spPr>
                      <a:xfrm>
                        <a:off x="5867640" y="3657600"/>
                        <a:ext cx="2209680" cy="1447920"/>
                      </a:xfrm>
                      <a:prstGeom prst="rect">
                        <a:avLst/>
                      </a:prstGeom>
                      <a:ln w="0">
                        <a:noFill/>
                      </a:ln>
                    </p:spPr>
                  </p:pic>
                </p:oleObj>
              </a:graphicData>
            </a:graphic>
          </p:graphicFrame>
          <p:sp>
            <p:nvSpPr>
              <p:cNvPr id="93" name=""/>
              <p:cNvSpPr/>
              <p:nvPr/>
            </p:nvSpPr>
            <p:spPr>
              <a:xfrm>
                <a:off x="6174360" y="41911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94" name=""/>
            <p:cNvSpPr/>
            <p:nvPr/>
          </p:nvSpPr>
          <p:spPr>
            <a:xfrm>
              <a:off x="4581000" y="4724640"/>
              <a:ext cx="1211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95" name=""/>
            <p:cNvSpPr/>
            <p:nvPr/>
          </p:nvSpPr>
          <p:spPr>
            <a:xfrm>
              <a:off x="4572360" y="4419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7692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48676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48676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4114800" y="548640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4114440" y="586728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548640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486040" y="586728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uch thing as 100% secur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know about security event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Intrusion Detection to gather information for human investig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 Host-based, Network-based, Hybri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 Pattern, Statistical, Knowledg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Positives – Warning about something which isn’t a threa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Negatives – Missing a security 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6T19:30:48Z</dcterms:created>
  <dc:creator>Penny Thompson</dc:creator>
  <dc:description/>
  <dc:language>en-US</dc:language>
  <cp:lastModifiedBy>King Tut</cp:lastModifiedBy>
  <dcterms:modified xsi:type="dcterms:W3CDTF">2002-07-10T23:33:14Z</dcterms:modified>
  <cp:revision>50</cp:revision>
  <dc:subject/>
  <dc:title>Overview</dc:title>
</cp:coreProperties>
</file>