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AA5-1C38-428B-9F56-B25AC199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84C-8018-49B0-A713-96BD6F5B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D19-C6A4-47BF-A9A1-D0FE2ABE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CC6-9AAA-4BCD-8FB3-3E8B1C1E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AFB-E8B6-4D54-ACB5-D5BB5A1F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AFF-DA23-4C7B-B89C-2062CA1D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38E-127F-4484-9378-EDD4E013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A4A-C154-4A23-8049-E13813DB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02B-1651-466A-B2C8-41538878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C00-77D3-4BEC-9FC8-841C75F5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AF9-0B6C-4958-9179-6E9BA1F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499-3780-40AF-9CF9-EA4B1F6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F2CD-85B3-4F49-9CA4-440AE148A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nymity Services and the Law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afely Provide Anonymity Technology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 Sassa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mo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bbi@shm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102852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the same as 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in the right to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personal use of th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to demonstrate technical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ory into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ixmaster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re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s/Milit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 anonymous “tip hotli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onymity for investigation or espio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to undermine foreign government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afeweb and 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: Commercial vs.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onymity services tend to be w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onymity services tend to be mor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passive concer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financ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pers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wart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communication is seco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mmercial Anonymity is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to s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collection (no anonymous ca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opera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large anonymit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rendering (no anonymous ca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of anonymity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network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the casual att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online for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the operator or the la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ISP sno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government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in the case of server compromise (hacker-proof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the mathemat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eb mai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 anonymous prox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mail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-net remail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Anonym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for free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 has important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solutions are l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ly accessible non-profit anonymity services are the main source of strong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digital cash would chang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-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by David Chaum written in 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d a method of anonymou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 – no universally trusted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mplimented by Ch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n.penet.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nym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software created by Karl Klein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d by Julf Helsingius in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in the early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weak anonymity, but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500,000 register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l victim to a “legal attack” by the Church of Scie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net.fi/press-englis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pherpunk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d ideas from Ch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 by Eric Hughes, Hal Fin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by Raif Levien, Matt Ghio, and others (statistics generation, lat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GP for encryption and n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analysis still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Remail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nymserver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master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mentation of Chaum’s Mix-net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begun in 1993 by Lance Cottr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multiple shortcomings in the Type I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written in 1998 by Ulf Mö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the most widely used remaile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as “Type II Remail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Knowledge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services on top of the ZKS Freedom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, ease of use, and return addresses (persistant pseudony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enterprise that was too 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future as open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chanics of Strong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Chaum’s mix-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ayered encyption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stinguishable messag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reordering at each 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ddress reply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-net impl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vailable for Windows, Macintosh,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available for Unix and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hardware 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network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serve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anonym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the identity of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al other identify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ciate users’ actions with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onceal that those actions occ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!=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ixmaster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00280" y="1633680"/>
            <a:ext cx="39434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of a mixed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ding/spl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operator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n outside observer would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a large anonymit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ws in Mix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forward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fai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turn address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and Handling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s are ill-suited for email sp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atency, easy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-relays are much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 spam is still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mailers block binary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is decreased by sending large, multi-packe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is a poor medium for 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-away shell/ftp accounts, irc, and p2p systems are more popular for w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ed hara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abusive messages at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s from one or more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 fl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remailer block-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ler Abuse Bla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racrypt.com/remailerabus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need to know the ID of ab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eing a target of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 and flood detection tools for rem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ma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Anonymity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 remop can’t reveal abusers’ True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last hop is usually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i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yption keys aren’t useful in las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ained hop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TLS forward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remops don’t keep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 space / resource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user 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eful for abuse invest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ications in Dealing with Abuse Compl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legal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mail-to-news gate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de a Mixmaster Rema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k-through of a l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 program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 packet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with Law Enfor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LEO’s want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at you are operating a rem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more overt the anonymity, the easier this is will 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to help as much as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abuse counter-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you do not need to talk to LEOs! Know your Miranda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treated as a suspect, it is likely due to technical ignorance on the LEO’s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resorts: turn to EFF, ACLU, E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m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website is the first thing an investigator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information on remailers and their benefit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riendly with local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a crimin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 became a re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aw enforcement inqu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 would do differentl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status of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mend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Frontiers Georgia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’s RIP B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U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remailers might b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ert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not automatically flagged as a user of anonymity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often has more cred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attract suspi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picuous web prox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eb email accounts through prox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k-a-Boo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“September 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mailers ope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pinion of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s: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public libr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be Impro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programmer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minion (Typ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enhance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clien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web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law maker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legality of anonymit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protections for remailer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revolutionarie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take if remailers are banned in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operating remailers anonym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maintaining anonymity without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the US bans remail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public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rem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stable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remail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testimon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ublic opinion to our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benefit of remailers mus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 Sass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@shm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t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known to be anony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ility is more often ques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zer.com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rvices are a mixture of covert and overt anonym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perates Public Anonymity Ser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provide anonymity services for 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interest in protecting their customers ide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o not offer strong anonymity – payment hurd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Anonymiz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Zero Knowledge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ies and N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services “For the good of the communit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ore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have a specific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ble to avoid the issue of anonymous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IT’s nym.alia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Voice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01:30:24Z</dcterms:created>
  <dc:creator>L. Sassaman</dc:creator>
  <dc:description/>
  <dc:language>en-US</dc:language>
  <cp:lastModifiedBy>L. Sassaman</cp:lastModifiedBy>
  <dcterms:modified xsi:type="dcterms:W3CDTF">2002-07-11T21:30:51Z</dcterms:modified>
  <cp:revision>19</cp:revision>
  <dc:subject/>
  <dc:title>Forensic Dead-Ends: Tracing Anonymous Internet Abuse</dc:title>
</cp:coreProperties>
</file>