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44F-C88C-4082-B3CA-24093CDA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889-0722-422E-B670-2FB5A441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A38-9D1F-4408-A131-822C2D93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FED-2139-4C32-A2EF-CEF17E7D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EF14-16AA-4373-854A-5A11C8C2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E6CC-31A2-4704-8465-6241EA3D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B9AB-8BB8-4D85-9927-B34038A3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28FB-4344-4514-ADDF-FAB7AFFD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35FD-0446-4F5A-9723-F5C844A1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3301-722C-4BE7-8349-DD744DAC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C06A-B42F-42EB-9D29-176C25F8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645-4B9E-4CB4-AEF0-A387B962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D4F5-5FA8-4A00-B024-1D89853F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F1AF-AF7F-4C72-B528-9D19F618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07E7-170A-41E8-983E-6D5075B9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B1EF-32AD-4311-8038-D9FD6693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5CC8-1052-4433-BF12-BC94CE64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E632-144D-41F0-A4FC-679A7713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0D51-6388-4E66-8921-1ACD4B4E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888-A177-4861-88F0-1E1AE377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C46-7F2B-43BB-B09F-CA81BA2A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39B-01EB-423E-AF5B-3845C72A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0C24-FB1B-4A00-9055-C204BB5A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A435-0714-4E85-B71F-E70F548E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6815-19CA-4F84-A685-3B2FBB8E0F13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8408880" y="0"/>
            <a:ext cx="735120" cy="66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31DF-7950-45CA-8C40-01D200B8FC85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saca.org/" TargetMode="External"/><Relationship Id="rId3" Type="http://schemas.openxmlformats.org/officeDocument/2006/relationships/hyperlink" Target="http://www.bsi-global.com/" TargetMode="External"/><Relationship Id="rId4" Type="http://schemas.openxmlformats.org/officeDocument/2006/relationships/hyperlink" Target="http://www.nist.gov/" TargetMode="External"/><Relationship Id="rId5" Type="http://schemas.openxmlformats.org/officeDocument/2006/relationships/hyperlink" Target="http://www.ietf.org/" TargetMode="External"/><Relationship Id="rId6" Type="http://schemas.openxmlformats.org/officeDocument/2006/relationships/hyperlink" Target="http://www.iso.org/" TargetMode="External"/><Relationship Id="rId7" Type="http://schemas.openxmlformats.org/officeDocument/2006/relationships/hyperlink" Target="http://www.cenorm.be/isss" TargetMode="External"/><Relationship Id="rId8" Type="http://schemas.openxmlformats.org/officeDocument/2006/relationships/hyperlink" Target="http://www.sse-cmm.org/" TargetMode="External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he Other Side of Information Securit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61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61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61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61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61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61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61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Wilco van Ginkel – Ubize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61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wilco.vanginkel@ubizen.com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3" name="sign129" descr=""/>
          <p:cNvPicPr/>
          <p:nvPr/>
        </p:nvPicPr>
        <p:blipFill>
          <a:blip r:embed="rId2"/>
          <a:stretch/>
        </p:blipFill>
        <p:spPr>
          <a:xfrm>
            <a:off x="3487680" y="2743200"/>
            <a:ext cx="21510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first step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eet the parents’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ecause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hey are the end responsibles for security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hey decide about the budge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hey should support securit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hey have authorit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How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usiness Assessment &amp; Risk Managemen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usiness Assessment - 1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should I need protection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iscuss the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</a:rPr>
              <a:t>stak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iscuss the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</a:rPr>
              <a:t>different types of informatio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iscuss the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</a:rPr>
              <a:t>Security Requirements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(CIAR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iscuss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</a:rPr>
              <a:t>strategic questions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, like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eplacement value of IT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arget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s IT just support or strategic for the organisa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xamples of Stak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mpany Imag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ss of customer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ss of servi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egal pursuit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nancial recovery cost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xamples of Informa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ublic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fidentia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ivac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mpany critica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ecurity Requireme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IA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an be more fine-grained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nternal vs externa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unction vs dat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Example </a:t>
            </a:r>
            <a:r>
              <a:rPr b="0" lang="en-US" sz="28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External Data Confidentialit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Example </a:t>
            </a:r>
            <a:r>
              <a:rPr b="0" lang="en-US" sz="28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Accountability (Non-repudiation)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Broken anonymit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Unavailability of proof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Unavailability of accountability func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usiness Assessment - 2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How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ifficult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will it be to protect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Evaluate the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</a:rPr>
              <a:t>constraints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, lik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inancia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nternal knowledg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ependency on partner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alenda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Risk Management - 1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isk Management consists of two part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isk Assessment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isk Treatment (mitigation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isk Assessment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isk Analysis (identification + evaluation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isk Valua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Agains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h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should I protect </a:t>
            </a:r>
            <a:r>
              <a:rPr b="0" lang="en-US" sz="28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264c"/>
                </a:solidFill>
                <a:latin typeface="Times New Roman"/>
              </a:rPr>
              <a:t>Risk Assessmen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to protect </a:t>
            </a:r>
            <a:r>
              <a:rPr b="0" lang="en-US" sz="28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264c"/>
                </a:solidFill>
                <a:latin typeface="Times New Roman"/>
              </a:rPr>
              <a:t>Risk Treatmen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pendency between security requirements &amp; risk management…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Risk Management - 2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</a:rPr>
              <a:t>Some attention points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ifferent Risk Assessment/Analysis methodologies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Generic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Detailed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Business oriented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ometimes difficult to determine the ‘value’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Make sure that you’ve the right people, meaning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Who know the business process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Who have authority to decide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Be careful when using risk management tools…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PSPG - 1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licies </a:t>
            </a:r>
            <a:r>
              <a:rPr b="0" lang="en-US" sz="32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high-level statements of a companies belief, goals and objectiv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andards  </a:t>
            </a:r>
            <a:r>
              <a:rPr b="0" lang="en-US" sz="32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mandatory rules &amp; regulation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rocedures </a:t>
            </a:r>
            <a:r>
              <a:rPr b="0" lang="en-US" sz="32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how to implement the policies, standards and guidelines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uidelines </a:t>
            </a:r>
            <a:r>
              <a:rPr b="0" lang="en-US" sz="32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recommendation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PSPG - 2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1752480"/>
            <a:ext cx="1904760" cy="76212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Assessment,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Laws, Regulations,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2819520"/>
            <a:ext cx="1904760" cy="76176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Policy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3886200"/>
            <a:ext cx="1904760" cy="76212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8120" y="5334120"/>
            <a:ext cx="1904760" cy="76176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Procedures,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Practice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4724280"/>
            <a:ext cx="1905120" cy="76212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Guideline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5" idx="2"/>
            <a:endCxn id="186" idx="0"/>
          </p:cNvCxnSpPr>
          <p:nvPr/>
        </p:nvCxnSpPr>
        <p:spPr>
          <a:xfrm>
            <a:off x="4000320" y="2514240"/>
            <a:ext cx="1080" cy="305640"/>
          </a:xfrm>
          <a:prstGeom prst="straightConnector1">
            <a:avLst/>
          </a:prstGeom>
          <a:ln w="9360">
            <a:solidFill>
              <a:srgbClr val="00264c"/>
            </a:solidFill>
            <a:miter/>
          </a:ln>
        </p:spPr>
      </p:cxnSp>
      <p:cxnSp>
        <p:nvCxnSpPr>
          <p:cNvPr id="191" name=""/>
          <p:cNvCxnSpPr>
            <a:stCxn id="186" idx="2"/>
            <a:endCxn id="187" idx="0"/>
          </p:cNvCxnSpPr>
          <p:nvPr/>
        </p:nvCxnSpPr>
        <p:spPr>
          <a:xfrm>
            <a:off x="4000320" y="3580920"/>
            <a:ext cx="1080" cy="305640"/>
          </a:xfrm>
          <a:prstGeom prst="straightConnector1">
            <a:avLst/>
          </a:prstGeom>
          <a:ln w="9360">
            <a:solidFill>
              <a:srgbClr val="00264c"/>
            </a:solidFill>
            <a:miter/>
          </a:ln>
        </p:spPr>
      </p:cxnSp>
      <p:cxnSp>
        <p:nvCxnSpPr>
          <p:cNvPr id="192" name=""/>
          <p:cNvCxnSpPr>
            <a:stCxn id="187" idx="2"/>
            <a:endCxn id="188" idx="0"/>
          </p:cNvCxnSpPr>
          <p:nvPr/>
        </p:nvCxnSpPr>
        <p:spPr>
          <a:xfrm>
            <a:off x="4000320" y="4647960"/>
            <a:ext cx="1080" cy="686520"/>
          </a:xfrm>
          <a:prstGeom prst="straightConnector1">
            <a:avLst/>
          </a:prstGeom>
          <a:ln w="9360">
            <a:solidFill>
              <a:srgbClr val="00264c"/>
            </a:solidFill>
            <a:miter/>
          </a:ln>
        </p:spPr>
      </p:cxnSp>
      <p:cxnSp>
        <p:nvCxnSpPr>
          <p:cNvPr id="193" name=""/>
          <p:cNvCxnSpPr>
            <a:stCxn id="187" idx="2"/>
            <a:endCxn id="189" idx="1"/>
          </p:cNvCxnSpPr>
          <p:nvPr/>
        </p:nvCxnSpPr>
        <p:spPr>
          <a:xfrm flipH="1" rot="16200000">
            <a:off x="4514040" y="4133880"/>
            <a:ext cx="457920" cy="1486440"/>
          </a:xfrm>
          <a:prstGeom prst="bentConnector2">
            <a:avLst/>
          </a:prstGeom>
          <a:ln w="9360">
            <a:solidFill>
              <a:srgbClr val="00264c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-52200" y="6553080"/>
            <a:ext cx="49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264c"/>
                </a:solidFill>
                <a:latin typeface="Times New Roman"/>
              </a:rPr>
              <a:t>From ‘Information Security, Policies, Procedures, and Standards’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Purpose of this tal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vide the audience an overview of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64c"/>
                </a:solidFill>
                <a:latin typeface="Times New Roman"/>
              </a:rPr>
              <a:t>‘</a:t>
            </a:r>
            <a:r>
              <a:rPr b="0" i="1" lang="en-US" sz="3200" spc="-1" strike="noStrike">
                <a:solidFill>
                  <a:srgbClr val="00264c"/>
                </a:solidFill>
                <a:latin typeface="Times New Roman"/>
              </a:rPr>
              <a:t>The Other Side of Information Security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’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 a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nutshel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Nutshell</a:t>
            </a:r>
            <a:r>
              <a:rPr b="0" i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ecause of time constraint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PSPG - 3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Policy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Access to company information systems is restricted to authorised users onl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Standard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Users are required to have a unique User-id &amp; confidential password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User-id &amp; password requests must contain a signature of the authorised system owner. Approval of the signature must be verified against the company list of authorised signatur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Guideline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Passwords should have 5 to 8 alphanumeric character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14040" y="6546960"/>
            <a:ext cx="49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264c"/>
                </a:solidFill>
                <a:latin typeface="Times New Roman"/>
              </a:rPr>
              <a:t>From ‘Information Security, Policies, Procedures, and Standards’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PSPG Building Block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50720" y="1828800"/>
            <a:ext cx="5492880" cy="762120"/>
            <a:chOff x="450720" y="1828800"/>
            <a:chExt cx="5492880" cy="762120"/>
          </a:xfrm>
        </p:grpSpPr>
        <p:sp>
          <p:nvSpPr>
            <p:cNvPr id="200" name=""/>
            <p:cNvSpPr/>
            <p:nvPr/>
          </p:nvSpPr>
          <p:spPr>
            <a:xfrm>
              <a:off x="4114800" y="1828800"/>
              <a:ext cx="1828800" cy="762120"/>
            </a:xfrm>
            <a:prstGeom prst="rect">
              <a:avLst/>
            </a:prstGeom>
            <a:solidFill>
              <a:srgbClr val="78c0b2"/>
            </a:solidFill>
            <a:ln w="9360">
              <a:solidFill>
                <a:srgbClr val="00264c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Corporate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Security Policy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0720" y="2022480"/>
              <a:ext cx="11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1</a:t>
              </a:r>
              <a:r>
                <a:rPr b="0" lang="en-US" sz="2400" spc="-1" strike="noStrike" baseline="30000">
                  <a:solidFill>
                    <a:srgbClr val="00264c"/>
                  </a:solidFill>
                  <a:latin typeface="Times New Roman"/>
                </a:rPr>
                <a:t>st</a:t>
              </a: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 level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97080" y="3048120"/>
            <a:ext cx="8594640" cy="761760"/>
            <a:chOff x="397080" y="3048120"/>
            <a:chExt cx="8594640" cy="761760"/>
          </a:xfrm>
        </p:grpSpPr>
        <p:sp>
          <p:nvSpPr>
            <p:cNvPr id="203" name=""/>
            <p:cNvSpPr/>
            <p:nvPr/>
          </p:nvSpPr>
          <p:spPr>
            <a:xfrm>
              <a:off x="397080" y="327672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2</a:t>
              </a:r>
              <a:r>
                <a:rPr b="0" lang="en-US" sz="2400" spc="-1" strike="noStrike" baseline="30000">
                  <a:solidFill>
                    <a:srgbClr val="00264c"/>
                  </a:solidFill>
                  <a:latin typeface="Times New Roman"/>
                </a:rPr>
                <a:t>nd</a:t>
              </a: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 level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28800" y="3048120"/>
              <a:ext cx="1219320" cy="7617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264c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Asset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classification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76720" y="3048120"/>
              <a:ext cx="1218960" cy="7617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264c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Security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Organisation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00600" y="3048120"/>
              <a:ext cx="1219320" cy="7617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264c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High-level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IRP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24480" y="3048120"/>
              <a:ext cx="1219320" cy="7617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264c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Education &amp;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Training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72400" y="3048120"/>
              <a:ext cx="1219320" cy="7617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264c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Business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Continuity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Framework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91680" y="4191120"/>
            <a:ext cx="6785280" cy="761760"/>
            <a:chOff x="391680" y="4191120"/>
            <a:chExt cx="6785280" cy="761760"/>
          </a:xfrm>
        </p:grpSpPr>
        <p:sp>
          <p:nvSpPr>
            <p:cNvPr id="210" name=""/>
            <p:cNvSpPr/>
            <p:nvPr/>
          </p:nvSpPr>
          <p:spPr>
            <a:xfrm>
              <a:off x="391680" y="4419720"/>
              <a:ext cx="115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3</a:t>
              </a:r>
              <a:r>
                <a:rPr b="0" lang="en-US" sz="2400" spc="-1" strike="noStrike" baseline="30000">
                  <a:solidFill>
                    <a:srgbClr val="00264c"/>
                  </a:solidFill>
                  <a:latin typeface="Times New Roman"/>
                </a:rPr>
                <a:t>rd</a:t>
              </a: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 level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25560" y="4191120"/>
              <a:ext cx="1219320" cy="7617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264c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73480" y="4191120"/>
              <a:ext cx="1219320" cy="7617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264c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Compliance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7360" y="4191120"/>
              <a:ext cx="1219320" cy="7617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264c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Back-up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Recovery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91320" y="4308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94560" y="5334120"/>
            <a:ext cx="8169840" cy="761760"/>
            <a:chOff x="394560" y="5334120"/>
            <a:chExt cx="8169840" cy="761760"/>
          </a:xfrm>
        </p:grpSpPr>
        <p:sp>
          <p:nvSpPr>
            <p:cNvPr id="216" name=""/>
            <p:cNvSpPr/>
            <p:nvPr/>
          </p:nvSpPr>
          <p:spPr>
            <a:xfrm>
              <a:off x="394560" y="5562720"/>
              <a:ext cx="11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4</a:t>
              </a:r>
              <a:r>
                <a:rPr b="0" lang="en-US" sz="2400" spc="-1" strike="noStrike" baseline="30000">
                  <a:solidFill>
                    <a:srgbClr val="00264c"/>
                  </a:solidFill>
                  <a:latin typeface="Times New Roman"/>
                </a:rPr>
                <a:t>th</a:t>
              </a: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 level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28800" y="5334120"/>
              <a:ext cx="1219320" cy="76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264c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Malicious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Software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76720" y="5334120"/>
              <a:ext cx="1218960" cy="76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264c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Cryptography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5334120"/>
              <a:ext cx="1219320" cy="76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264c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System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Specific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48520" y="5334120"/>
              <a:ext cx="1218960" cy="76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264c"/>
              </a:solidFill>
              <a:miter/>
            </a:ln>
            <a:effectLst>
              <a:outerShdw dist="107932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Acceptable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Use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78760" y="54864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PSPG - 4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</a:rPr>
              <a:t>Make sure that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e PSPG documents are supported by the System Owne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e PSPG documents are developed by a representative group within the organisa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e PSPG documents are clearly communicated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e PSPG documents are useful and pragmatic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You pay attention to the organisational culture!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You pay attention to the international culture!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ecurity Standards - 1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re you on our own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o, there are standards out the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set of best practic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an be a good starting point and prevents to re-invent the whe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However, be careful not to implement a security standard blindly…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ecurity Standards - 2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ome well-known examples are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SO/17799 (BS/7799 part 1 + 2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obit-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TI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SO-13335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ommon Criteria (ISO-15408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NIST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ETF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ertification…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ecurity Awareness - 1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e most critical success factor of Information Secur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wareness should be at any level in the organisatio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t is all about psychology…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ecurity Awareness - 2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18600" y="2119320"/>
            <a:ext cx="6022080" cy="3292560"/>
            <a:chOff x="1218600" y="2119320"/>
            <a:chExt cx="6022080" cy="3292560"/>
          </a:xfrm>
        </p:grpSpPr>
        <p:sp>
          <p:nvSpPr>
            <p:cNvPr id="232" name=""/>
            <p:cNvSpPr/>
            <p:nvPr/>
          </p:nvSpPr>
          <p:spPr>
            <a:xfrm>
              <a:off x="2209680" y="2514600"/>
              <a:ext cx="5029200" cy="2895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11480" y="3994200"/>
              <a:ext cx="5029200" cy="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03440" y="2119320"/>
              <a:ext cx="180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Incorrect Behaviour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18480" y="2124000"/>
              <a:ext cx="168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Correct Behaviour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03760" y="2516040"/>
              <a:ext cx="0" cy="289584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18600" y="31240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Unaware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78800" y="454032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64c"/>
                  </a:solidFill>
                  <a:latin typeface="Times New Roman"/>
                </a:rPr>
                <a:t>Aware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00400" y="32004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65920" y="32004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429000" y="3276720"/>
            <a:ext cx="2514600" cy="0"/>
          </a:xfrm>
          <a:prstGeom prst="line">
            <a:avLst/>
          </a:prstGeom>
          <a:ln w="9360">
            <a:solidFill>
              <a:srgbClr val="00264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00400" y="3452760"/>
            <a:ext cx="152280" cy="1347840"/>
            <a:chOff x="3200400" y="3452760"/>
            <a:chExt cx="152280" cy="1347840"/>
          </a:xfrm>
        </p:grpSpPr>
        <p:sp>
          <p:nvSpPr>
            <p:cNvPr id="243" name=""/>
            <p:cNvSpPr/>
            <p:nvPr/>
          </p:nvSpPr>
          <p:spPr>
            <a:xfrm>
              <a:off x="3276720" y="3452760"/>
              <a:ext cx="0" cy="10875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00400" y="46483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429000" y="4626000"/>
            <a:ext cx="2711520" cy="152280"/>
            <a:chOff x="3429000" y="4626000"/>
            <a:chExt cx="2711520" cy="152280"/>
          </a:xfrm>
        </p:grpSpPr>
        <p:sp>
          <p:nvSpPr>
            <p:cNvPr id="246" name=""/>
            <p:cNvSpPr/>
            <p:nvPr/>
          </p:nvSpPr>
          <p:spPr>
            <a:xfrm>
              <a:off x="5987880" y="4626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29000" y="4724280"/>
              <a:ext cx="2514600" cy="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40440" y="3429000"/>
            <a:ext cx="0" cy="1087560"/>
          </a:xfrm>
          <a:prstGeom prst="line">
            <a:avLst/>
          </a:prstGeom>
          <a:ln w="9360">
            <a:solidFill>
              <a:srgbClr val="00264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mplianc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o we still comply with our PSPG’s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uditing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Quick Sc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evie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ull Audi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nitoring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ternal vs externa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echnical vs organisationa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3320" y="283680"/>
            <a:ext cx="782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rganisational meets technical - 1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SP </a:t>
            </a:r>
            <a:r>
              <a:rPr b="0" lang="en-US" sz="28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Accountability principle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Access Control Policy </a:t>
            </a:r>
            <a:r>
              <a:rPr b="0" lang="en-US" sz="28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strong authenticatio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tandard </a:t>
            </a:r>
            <a:r>
              <a:rPr b="0" lang="en-US" sz="28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Token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rganisational meets technical - 2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SP </a:t>
            </a:r>
            <a:r>
              <a:rPr b="0" lang="en-US" sz="28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Information across untrusted networks should be protected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ryptography Policy </a:t>
            </a:r>
            <a:r>
              <a:rPr b="0" lang="en-US" sz="28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Symmetric Encryption at least 128 bits, preferred choice 3-D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Guideline </a:t>
            </a:r>
            <a:r>
              <a:rPr b="0" lang="en-US" sz="28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Hardware Encryptor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usiness Assess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Risk Manag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SPG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urity Awarenes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mplian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xamples where Organisational meets Technica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rganisational meets technical - 3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Within the business process ‘Electronic Transactions’, there is a high security requirement for 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Integrity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Non-repudia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Defined risks are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Unauthorised change of the transactio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Denial of sending the transactio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tandard </a:t>
            </a:r>
            <a:r>
              <a:rPr b="0" lang="en-US" sz="24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Digital signatur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ryptography Policy </a:t>
            </a:r>
            <a:r>
              <a:rPr b="0" lang="en-US" sz="2400" spc="-1" strike="noStrike">
                <a:solidFill>
                  <a:srgbClr val="00264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Use RSA, minimum key length of at least 1024 bit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Useful link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98bbd"/>
                </a:solidFill>
                <a:uFillTx/>
                <a:latin typeface="Times New Roman"/>
                <a:hlinkClick r:id="rId2"/>
              </a:rPr>
              <a:t>www.isaca.org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98bbd"/>
                </a:solidFill>
                <a:uFillTx/>
                <a:latin typeface="Times New Roman"/>
                <a:hlinkClick r:id="rId3"/>
              </a:rPr>
              <a:t>www.bsi-global.com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98bbd"/>
                </a:solidFill>
                <a:uFillTx/>
                <a:latin typeface="Times New Roman"/>
                <a:hlinkClick r:id="rId4"/>
              </a:rPr>
              <a:t>www.nist.gov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98bbd"/>
                </a:solidFill>
                <a:uFillTx/>
                <a:latin typeface="Times New Roman"/>
                <a:hlinkClick r:id="rId5"/>
              </a:rPr>
              <a:t>www.ietf.org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98bbd"/>
                </a:solidFill>
                <a:uFillTx/>
                <a:latin typeface="Times New Roman"/>
                <a:hlinkClick r:id="rId6"/>
              </a:rPr>
              <a:t>www.iso.org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98bbd"/>
                </a:solidFill>
                <a:uFillTx/>
                <a:latin typeface="Times New Roman"/>
                <a:hlinkClick r:id="rId7"/>
              </a:rPr>
              <a:t>www.cenorm.be/isss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98bbd"/>
                </a:solidFill>
                <a:uFillTx/>
                <a:latin typeface="Times New Roman"/>
                <a:hlinkClick r:id="rId8"/>
              </a:rPr>
              <a:t>www.sse-cmm.org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Useful book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Writing Information Security Policies’, Scott Barma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Building an Information Security Awareness Program’, Mark B. Desma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Information Security Risk Analysis’, Thomas Peltie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Information Security Policies, Procedures, and Standards’, Thomas Peltie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Information Security Policies made easy, version 8’, Crisson Wood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Incident Response’ (O-Reilly), Richard Forn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omputer Forensics’, Warren Kruse II &amp; Jay G. Heise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Know your enemy’ </a:t>
            </a:r>
            <a:r>
              <a:rPr b="0" lang="en-US" sz="20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honeypot project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Information Warfare’, Dorothy Denning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Reading stuff to fill long winter nights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SO TR13335 General Management of IT Securit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SO 15408 Common Criteria for evaluation and certification of IT securit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aseline Protection Manual (BSI.DE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S7799: Code of practice for Information Security Management (two parts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obiT: Governance, Control and Audit for Information and Related Technology  (ISACA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SE-CMM: System Security Engineering - Capability Maturity Mod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90720" y="579132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Question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191120" y="2286000"/>
            <a:ext cx="4038480" cy="3276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295280" y="1752480"/>
            <a:ext cx="1621080" cy="39340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15120" y="566892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iscussion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e four fundamental security question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e components of a total security solutio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rend in the marke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e Security Triangl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e Domain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Four Security Questi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st organisations ask the question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‘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should I protect’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re important is to ask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hy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should I need protection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26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How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difficult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will it be to protect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and agains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h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should I protect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26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09680" y="2666520"/>
            <a:ext cx="5410440" cy="3124800"/>
            <a:chOff x="2209680" y="2666520"/>
            <a:chExt cx="5410440" cy="3124800"/>
          </a:xfrm>
        </p:grpSpPr>
        <p:sp>
          <p:nvSpPr>
            <p:cNvPr id="103" name=""/>
            <p:cNvSpPr/>
            <p:nvPr/>
          </p:nvSpPr>
          <p:spPr>
            <a:xfrm>
              <a:off x="2209680" y="5791320"/>
              <a:ext cx="5410440" cy="0"/>
            </a:xfrm>
            <a:prstGeom prst="line">
              <a:avLst/>
            </a:prstGeom>
            <a:ln w="936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620120" y="2666520"/>
              <a:ext cx="0" cy="3124440"/>
            </a:xfrm>
            <a:prstGeom prst="line">
              <a:avLst/>
            </a:prstGeom>
            <a:ln w="936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324120" y="2666880"/>
              <a:ext cx="1295640" cy="0"/>
            </a:xfrm>
            <a:prstGeom prst="line">
              <a:avLst/>
            </a:prstGeom>
            <a:ln w="9360">
              <a:solidFill>
                <a:srgbClr val="00264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mpone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41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1905120"/>
            <a:ext cx="1600200" cy="914400"/>
          </a:xfrm>
          <a:prstGeom prst="ellipse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2895480"/>
            <a:ext cx="1981440" cy="10670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264c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echnica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895480"/>
            <a:ext cx="2209680" cy="1067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264c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Organisationa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1981080"/>
            <a:ext cx="129528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264c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Business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Assessment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2743200"/>
            <a:ext cx="129528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264c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PSPG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3809880"/>
            <a:ext cx="129564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264c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Risk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4572000"/>
            <a:ext cx="129564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264c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Security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Awareness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4343400"/>
            <a:ext cx="129528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264c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Times New Roman"/>
              </a:rPr>
              <a:t>Legal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08" idx="2"/>
            <a:endCxn id="109" idx="0"/>
          </p:cNvCxnSpPr>
          <p:nvPr/>
        </p:nvCxnSpPr>
        <p:spPr>
          <a:xfrm flipV="1" rot="10800000">
            <a:off x="2285280" y="2361240"/>
            <a:ext cx="534240" cy="533880"/>
          </a:xfrm>
          <a:prstGeom prst="bentConnector2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8" idx="6"/>
            <a:endCxn id="110" idx="0"/>
          </p:cNvCxnSpPr>
          <p:nvPr/>
        </p:nvCxnSpPr>
        <p:spPr>
          <a:xfrm>
            <a:off x="4419360" y="2361960"/>
            <a:ext cx="648360" cy="533880"/>
          </a:xfrm>
          <a:prstGeom prst="bentConnector2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0" idx="7"/>
            <a:endCxn id="111" idx="4"/>
          </p:cNvCxnSpPr>
          <p:nvPr/>
        </p:nvCxnSpPr>
        <p:spPr>
          <a:xfrm flipH="1" flipV="1" rot="5400000">
            <a:off x="5798880" y="2715480"/>
            <a:ext cx="384840" cy="286560"/>
          </a:xfrm>
          <a:prstGeom prst="curvedConnector5">
            <a:avLst>
              <a:gd name="adj1" fmla="val 70224"/>
              <a:gd name="adj2" fmla="val 49937"/>
              <a:gd name="adj3" fmla="val 70224"/>
            </a:avLst>
          </a:prstGeom>
          <a:ln w="9360">
            <a:solidFill>
              <a:srgbClr val="00264c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0" idx="3"/>
          </p:cNvCxnSpPr>
          <p:nvPr/>
        </p:nvCxnSpPr>
        <p:spPr>
          <a:xfrm rot="5400000">
            <a:off x="3893760" y="3951360"/>
            <a:ext cx="536760" cy="248400"/>
          </a:xfrm>
          <a:prstGeom prst="curvedConnector5">
            <a:avLst>
              <a:gd name="adj1" fmla="val 64496"/>
              <a:gd name="adj2" fmla="val 49927"/>
              <a:gd name="adj3" fmla="val 64496"/>
            </a:avLst>
          </a:prstGeom>
          <a:ln w="9360">
            <a:solidFill>
              <a:srgbClr val="00264c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0" idx="6"/>
            <a:endCxn id="112" idx="3"/>
          </p:cNvCxnSpPr>
          <p:nvPr/>
        </p:nvCxnSpPr>
        <p:spPr>
          <a:xfrm flipV="1">
            <a:off x="6172200" y="3328560"/>
            <a:ext cx="722520" cy="100800"/>
          </a:xfrm>
          <a:prstGeom prst="curvedConnector5">
            <a:avLst>
              <a:gd name="adj1" fmla="val 36939"/>
              <a:gd name="adj2" fmla="val -113978"/>
              <a:gd name="adj3" fmla="val 36939"/>
            </a:avLst>
          </a:prstGeom>
          <a:ln w="9360">
            <a:solidFill>
              <a:srgbClr val="00264c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0" idx="5"/>
            <a:endCxn id="113" idx="2"/>
          </p:cNvCxnSpPr>
          <p:nvPr/>
        </p:nvCxnSpPr>
        <p:spPr>
          <a:xfrm flipH="1" rot="16200000">
            <a:off x="6027480" y="3627360"/>
            <a:ext cx="346680" cy="705240"/>
          </a:xfrm>
          <a:prstGeom prst="curvedConnector2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endCxn id="114" idx="0"/>
          </p:cNvCxnSpPr>
          <p:nvPr/>
        </p:nvCxnSpPr>
        <p:spPr>
          <a:xfrm flipH="1" rot="16200000">
            <a:off x="5571000" y="4085640"/>
            <a:ext cx="762840" cy="210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264c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190512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80%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3962520"/>
            <a:ext cx="0" cy="175248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79960" y="3962520"/>
            <a:ext cx="0" cy="175248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ren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urity is considered more and more as part of the normal business proces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We are not talking ‘Rocket Science’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oes this mean that technology is dead or something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st organisations just don’t know how to do it…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ecurity Triangl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905120"/>
            <a:ext cx="4343400" cy="3276360"/>
          </a:xfrm>
          <a:prstGeom prst="triangle">
            <a:avLst>
              <a:gd name="adj" fmla="val 50000"/>
            </a:avLst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237000">
            <a:off x="1174320" y="286416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Business Assessment, Risk Management &amp; PSPG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3448800">
            <a:off x="4266360" y="35805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ecurity Awarenes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5257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Security Architecture &amp; Infrastructur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3276720"/>
            <a:ext cx="182880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Domai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73280" y="2438280"/>
            <a:ext cx="3505320" cy="3353040"/>
          </a:xfrm>
          <a:prstGeom prst="donut">
            <a:avLst>
              <a:gd name="adj" fmla="val 124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473280" y="2438280"/>
            <a:ext cx="3505320" cy="3353040"/>
            <a:chOff x="3473280" y="2438280"/>
            <a:chExt cx="3505320" cy="3353040"/>
          </a:xfrm>
        </p:grpSpPr>
        <p:grpSp>
          <p:nvGrpSpPr>
            <p:cNvPr id="138" name=""/>
            <p:cNvGrpSpPr/>
            <p:nvPr/>
          </p:nvGrpSpPr>
          <p:grpSpPr>
            <a:xfrm>
              <a:off x="3473280" y="2438280"/>
              <a:ext cx="3505320" cy="3353040"/>
              <a:chOff x="3473280" y="2438280"/>
              <a:chExt cx="3505320" cy="3353040"/>
            </a:xfrm>
          </p:grpSpPr>
          <p:sp>
            <p:nvSpPr>
              <p:cNvPr id="139" name=""/>
              <p:cNvSpPr/>
              <p:nvPr/>
            </p:nvSpPr>
            <p:spPr>
              <a:xfrm>
                <a:off x="3473280" y="2438280"/>
                <a:ext cx="3505320" cy="3353040"/>
              </a:xfrm>
              <a:prstGeom prst="donut">
                <a:avLst>
                  <a:gd name="adj" fmla="val 15398"/>
                </a:avLst>
              </a:prstGeom>
              <a:solidFill>
                <a:srgbClr val="4d4d4d"/>
              </a:solidFill>
              <a:ln w="324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71080" y="2590920"/>
                <a:ext cx="100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Arial"/>
                  </a:rPr>
                  <a:t>Security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4083120" y="533412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64c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616280" y="4038480"/>
            <a:ext cx="1219320" cy="1067040"/>
          </a:xfrm>
          <a:prstGeom prst="triangle">
            <a:avLst>
              <a:gd name="adj" fmla="val 50000"/>
            </a:avLst>
          </a:prstGeom>
          <a:solidFill>
            <a:srgbClr val="78c0b2"/>
          </a:solidFill>
          <a:ln w="324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06800" y="3124080"/>
            <a:ext cx="1219320" cy="914400"/>
          </a:xfrm>
          <a:prstGeom prst="triangle">
            <a:avLst>
              <a:gd name="adj" fmla="val 50000"/>
            </a:avLst>
          </a:prstGeom>
          <a:solidFill>
            <a:srgbClr val="78c0b2"/>
          </a:solidFill>
          <a:ln w="324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26120" y="3124080"/>
            <a:ext cx="1218960" cy="914400"/>
          </a:xfrm>
          <a:prstGeom prst="triangle">
            <a:avLst>
              <a:gd name="adj" fmla="val 50000"/>
            </a:avLst>
          </a:prstGeom>
          <a:solidFill>
            <a:srgbClr val="78c0b2"/>
          </a:solidFill>
          <a:ln w="324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44880" y="3657600"/>
            <a:ext cx="838440" cy="762120"/>
            <a:chOff x="4844880" y="3657600"/>
            <a:chExt cx="838440" cy="762120"/>
          </a:xfrm>
        </p:grpSpPr>
        <p:sp>
          <p:nvSpPr>
            <p:cNvPr id="146" name=""/>
            <p:cNvSpPr/>
            <p:nvPr/>
          </p:nvSpPr>
          <p:spPr>
            <a:xfrm>
              <a:off x="5302080" y="3809880"/>
              <a:ext cx="228600" cy="457200"/>
            </a:xfrm>
            <a:prstGeom prst="ellipse">
              <a:avLst/>
            </a:prstGeom>
            <a:noFill/>
            <a:ln w="3240">
              <a:solidFill>
                <a:srgbClr val="00264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21200" y="3809880"/>
              <a:ext cx="228600" cy="457200"/>
            </a:xfrm>
            <a:prstGeom prst="ellipse">
              <a:avLst/>
            </a:prstGeom>
            <a:noFill/>
            <a:ln w="3240">
              <a:solidFill>
                <a:srgbClr val="00264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02080" y="3657600"/>
              <a:ext cx="381240" cy="762120"/>
            </a:xfrm>
            <a:prstGeom prst="ellipse">
              <a:avLst/>
            </a:prstGeom>
            <a:noFill/>
            <a:ln w="3240">
              <a:solidFill>
                <a:srgbClr val="00264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44880" y="3657600"/>
              <a:ext cx="304920" cy="762120"/>
            </a:xfrm>
            <a:prstGeom prst="ellipse">
              <a:avLst/>
            </a:prstGeom>
            <a:noFill/>
            <a:ln w="3240">
              <a:solidFill>
                <a:srgbClr val="00264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73480" y="3886200"/>
              <a:ext cx="304920" cy="304920"/>
            </a:xfrm>
            <a:prstGeom prst="ellipse">
              <a:avLst/>
            </a:prstGeom>
            <a:solidFill>
              <a:srgbClr val="262d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016080" y="1981080"/>
            <a:ext cx="4419720" cy="4267440"/>
            <a:chOff x="3016080" y="1981080"/>
            <a:chExt cx="4419720" cy="4267440"/>
          </a:xfrm>
        </p:grpSpPr>
        <p:sp>
          <p:nvSpPr>
            <p:cNvPr id="152" name=""/>
            <p:cNvSpPr/>
            <p:nvPr/>
          </p:nvSpPr>
          <p:spPr>
            <a:xfrm>
              <a:off x="3016080" y="1981080"/>
              <a:ext cx="4419720" cy="4267440"/>
            </a:xfrm>
            <a:prstGeom prst="donut">
              <a:avLst>
                <a:gd name="adj" fmla="val 10634"/>
              </a:avLst>
            </a:prstGeom>
            <a:solidFill>
              <a:srgbClr val="598bbd"/>
            </a:solidFill>
            <a:ln w="32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06200" y="1987560"/>
              <a:ext cx="123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64c"/>
                  </a:solidFill>
                  <a:latin typeface="Comic Sans MS"/>
                </a:rPr>
                <a:t>Business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30480" y="579132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64c"/>
                  </a:solidFill>
                  <a:latin typeface="Comic Sans MS"/>
                </a:rPr>
                <a:t>Requirements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615560" y="3124080"/>
            <a:ext cx="1219320" cy="914400"/>
            <a:chOff x="4615560" y="3124080"/>
            <a:chExt cx="1219320" cy="914400"/>
          </a:xfrm>
        </p:grpSpPr>
        <p:sp>
          <p:nvSpPr>
            <p:cNvPr id="156" name=""/>
            <p:cNvSpPr/>
            <p:nvPr/>
          </p:nvSpPr>
          <p:spPr>
            <a:xfrm flipH="1" rot="10800000">
              <a:off x="4615200" y="3124080"/>
              <a:ext cx="1219320" cy="914400"/>
            </a:xfrm>
            <a:prstGeom prst="triangle">
              <a:avLst>
                <a:gd name="adj" fmla="val 50000"/>
              </a:avLst>
            </a:prstGeom>
            <a:noFill/>
            <a:ln w="32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4920" y="3260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64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684760" y="4038480"/>
            <a:ext cx="759960" cy="1067040"/>
            <a:chOff x="5684760" y="4038480"/>
            <a:chExt cx="759960" cy="1067040"/>
          </a:xfrm>
        </p:grpSpPr>
        <p:sp>
          <p:nvSpPr>
            <p:cNvPr id="159" name=""/>
            <p:cNvSpPr/>
            <p:nvPr/>
          </p:nvSpPr>
          <p:spPr>
            <a:xfrm flipH="1">
              <a:off x="5835240" y="4038480"/>
              <a:ext cx="609480" cy="1067040"/>
            </a:xfrm>
            <a:prstGeom prst="line">
              <a:avLst/>
            </a:prstGeom>
            <a:ln w="32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84760" y="4191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64c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006800" y="4038480"/>
            <a:ext cx="781200" cy="1067040"/>
            <a:chOff x="4006800" y="4038480"/>
            <a:chExt cx="781200" cy="1067040"/>
          </a:xfrm>
        </p:grpSpPr>
        <p:sp>
          <p:nvSpPr>
            <p:cNvPr id="162" name=""/>
            <p:cNvSpPr/>
            <p:nvPr/>
          </p:nvSpPr>
          <p:spPr>
            <a:xfrm>
              <a:off x="4006800" y="4038480"/>
              <a:ext cx="609480" cy="1067040"/>
            </a:xfrm>
            <a:prstGeom prst="line">
              <a:avLst/>
            </a:prstGeom>
            <a:ln w="32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65440" y="4191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64c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28600" y="213372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Arial"/>
              </a:rPr>
              <a:t>Domains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Arial"/>
              </a:rPr>
              <a:t>1. I.T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Arial"/>
              </a:rPr>
              <a:t>2. Physical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Arial"/>
              </a:rPr>
              <a:t>3. Environmental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Arial"/>
              </a:rPr>
              <a:t>4. Human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Arial"/>
              </a:rPr>
              <a:t>5. Organizational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Arial"/>
              </a:rPr>
              <a:t>6. Administrativ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Arial"/>
              </a:rPr>
              <a:t>7. Legal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264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73280" y="2438280"/>
            <a:ext cx="3505320" cy="3353040"/>
          </a:xfrm>
          <a:prstGeom prst="donut">
            <a:avLst>
              <a:gd name="adj" fmla="val 124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07:38:41Z</dcterms:created>
  <dc:creator>W. van Ginkel</dc:creator>
  <dc:description/>
  <dc:language>en-US</dc:language>
  <cp:lastModifiedBy>W. van Ginkel</cp:lastModifiedBy>
  <dcterms:modified xsi:type="dcterms:W3CDTF">2002-07-08T08:03:51Z</dcterms:modified>
  <cp:revision>58</cp:revision>
  <dc:subject/>
  <dc:title>PowerPoint Presentation</dc:title>
</cp:coreProperties>
</file>