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png" ContentType="image/png"/>
  <Override PartName="/ppt/media/image7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8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11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8986-6229-4E45-A17A-45DEF9B96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567-83A4-46C7-884A-05561D6D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A7A-F1AD-42E6-B26E-5B13483AC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983-7C1E-4218-90C5-47E8BA6C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0B4-21C8-4726-883E-2097DF8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DB1-756D-43D2-8F13-6444DA2C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9E8-A8EA-4BBE-8134-A089A6B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46E-81DC-4AE1-A974-4233B89F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460-F692-4F98-A34B-B79E6F6C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CE8-6C6B-46DD-95B8-E431037B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5B7-2D72-40A5-93B8-025FB6F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A5A-50F8-4F63-9C03-8024847A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3031-9BF3-4E3F-8122-0D7A5498B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ndkind.org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987800" y="4800600"/>
            <a:ext cx="41562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0"/>
          <a:ext cx="7543800" cy="663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0"/>
                    <a:ext cx="7543800" cy="66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600200" y="0"/>
            <a:ext cx="514188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19320" y="2057400"/>
            <a:ext cx="72388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463 et pr0n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lancher dev/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Un ti mot des intéressé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hacking</a:t>
            </a:r>
            <a:br>
              <a:rPr sz="4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( sploits and secu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2057400"/>
            <a:ext cx="7238880" cy="39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obablement à la st-valentin 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(cute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rrection individuelle (pas la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u moins 70%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aintenant le seul ezine QC qui a de l’allure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(concurrent : madquebec, LJNB: dead, essayer de remplacer en bouffant les articles via L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19320" y="2057400"/>
            <a:ext cx="723888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ding : Wyze; design : 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diffé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 aboutus database exploits products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projects services doors jun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news: submissio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osting </a:t>
            </a:r>
            <a:r>
              <a:rPr b="0" lang="fr-CA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indkind.org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 WiL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, dedied      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BSD, speed++, P3 500, 2 NS (NT+B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Section membres enh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Cas pyrof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2438280"/>
            <a:ext cx="76201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Exemple IGA / TSA (199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Pas juste Mulder pis Patoff ( Nuclear, TheDamned pis un autre (si on aurait pas défacé le site on l’aurait su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Section phreak déficiante du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Moyen d’aller chercher ça ailleur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43210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213372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oublie la sodom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Ce sont pas des fi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Ts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imes New Roman"/>
              </a:rPr>
              <a:t>On va aller les voir pis les ju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ffffff"/>
                </a:solidFill>
                <a:latin typeface="Times New Roman"/>
              </a:rPr>
              <a:t>TB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4643640" cy="31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95280" y="62481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r Wyzeman et LastCall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5486400" cy="1663560"/>
          </a:xfrm>
          <a:prstGeom prst="rect">
            <a:avLst/>
          </a:prstGeom>
          <a:ln w="0">
            <a:noFill/>
          </a:ln>
        </p:spPr>
      </p:pic>
      <p:pic>
        <p:nvPicPr>
          <p:cNvPr id="43" name="happy2003" descr=""/>
          <p:cNvPicPr/>
          <p:nvPr/>
        </p:nvPicPr>
        <p:blipFill>
          <a:blip r:embed="rId2"/>
          <a:stretch/>
        </p:blipFill>
        <p:spPr>
          <a:xfrm>
            <a:off x="2666880" y="1676520"/>
            <a:ext cx="396252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19320" y="1523880"/>
            <a:ext cx="72388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h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utur sit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as pyrofreak (fusion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KC faire avec Flop pis SM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Ordre du jo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19320" y="1600200"/>
            <a:ext cx="72388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stablished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sector_x 1999- 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#mindkind 2001 -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remier eZine mai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Deuxième eZine sept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roisième eZine décem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ext eZine ??? DEMAI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Mindkind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19320" y="2057400"/>
            <a:ext cx="7238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Zine genre d’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Inflation des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Grosseur des eZ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ailles des eZines (comparativ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NB articles et auteurs par eZ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Arial"/>
              </a:rPr>
              <a:t>Quelques statistiq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4048200"/>
            <a:ext cx="39798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-228600" y="0"/>
          <a:ext cx="9144000" cy="520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0"/>
                    <a:ext cx="9144000" cy="52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241960" y="4624560"/>
            <a:ext cx="3902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7924680" cy="481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246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4800600"/>
            <a:ext cx="382428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09480" y="0"/>
          <a:ext cx="7925040" cy="67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92504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638680" y="5697360"/>
            <a:ext cx="25956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22:24:08Z</dcterms:created>
  <dc:creator>LastCall_</dc:creator>
  <dc:description/>
  <dc:language>en-US</dc:language>
  <cp:lastModifiedBy>LastCall_</cp:lastModifiedBy>
  <dcterms:modified xsi:type="dcterms:W3CDTF">2003-01-18T19:40:58Z</dcterms:modified>
  <cp:revision>24</cp:revision>
  <dc:subject/>
  <dc:title>Présentation PowerPoint</dc:title>
</cp:coreProperties>
</file>