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FB6-7449-486B-9761-54807474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E05-3010-4B84-9796-B137B85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918-8B74-4359-BDC6-F8B09F8A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F03-EEB9-4848-AC47-C7AA71D8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A951-4F5C-4770-A77A-7DDB6B04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1A0B-EA28-4E85-BF43-5558AFE5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3F63-8B8B-4D65-BC89-99B79F7D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3595-A6AF-4136-AAD8-3333FB3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1195-325C-40E6-BE2F-A7A4DE66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2CBB-74C5-4F9E-8C2A-6C6EA253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EFEB-743A-4DF2-B6EC-7D04103D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913-48BD-4170-915D-D530F16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AB93-6E59-411B-9418-EE05CBB6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AB02-E0D6-460E-99BF-7DCAC5E6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724-9F2E-42B1-9D61-38146D19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1F97-5412-485D-8A59-0C5EB334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CF1-B82E-4170-9591-3609E693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C42-70C9-42FF-895E-C335C7BA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F93-B22D-4784-9A90-EE25F864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1E5-081D-42CA-96A0-260DE0F1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432-D1E1-4054-92D5-5C6F6888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B11-BD11-481E-AA02-2587B19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1D3-DC48-4F35-8254-86A2D1B1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E86-6997-478C-92CF-9962039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768-DDB5-45D4-8AF0-1C18B437F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0F75-5194-4E97-BFAD-F74B0E580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Windows 95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200040"/>
            <a:ext cx="6400800" cy="30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Russinov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@sysinternal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s Inter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 “root” k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KEY_LOCAL_MACHINE (HKL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KEY_USERS (HK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KEY_CLASSES_ROOT (HKC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KEY_CURRENT_USER (HKC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KEY_CURRENT_CONFIG (HK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KEY_DYN_DATA (HKD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KEY_LOCAL_MAC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 the core of the Reg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SYSTEM.DAT (hidd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lled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E 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KEY_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USER.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the default user profile (.defaul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contains the profile of the currently logged-in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that profiles of users other than the logged-in user are not loaded from disk into the in-memory HKEY_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KEY_CLASSES_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ed to HKLM\SOFTWARE\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ists for backward compatibility with Win 3.x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everything that the only Win 3.x root key contain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DE, OLE, File Manager associations, drag-and-drop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KEY_CURRENT_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ed to key in HKEY_USERS belonging to currently logged-in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ly logged-in user determined by name entered in logon dia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KEY_CURRENT_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t another link; this one is to HKLM\Config\xxxx where xxxx is the current hardware configu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0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configuration value is stored in HKLM\System\CurrentControlSet\control\ IDConfigDB\CurrentConf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KEY_DYN_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ystemMonitor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solely for VxD/Application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KDD is “faked” by the configuration manager to look like a real registry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application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HKLM\Software\                  &lt;company name&gt;\&lt;application name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of information stored is application-dependent but usually includ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ensing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llation setting information (e.g. install directory, help-file directory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 setup information for pri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-specific application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HKCU\Software\&lt;company name&gt;\             &lt;application name&gt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 pos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RU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che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gistry too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E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you’ll get out of this tal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gistry’s purpose and organ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view and edit the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safeguard the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gEdit - basic opera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ing the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ting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ming keys or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new keys or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gEdit - advanced oper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REG files and what they’re goo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ing-up the reg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instal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ing for changes - use Windiff (ships with MSVC and SDK) or other text diff program on two versions of a .RE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gM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everything going on in the Registr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ugging Registry-enable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ing undocumented application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where applications are looking for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http://www.sysinternals.com/regmon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feguarding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31840" y="2338560"/>
            <a:ext cx="7772400" cy="33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ts a good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and after installing new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installing new 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xperimenting with RegE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feguarding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9240" y="2457360"/>
            <a:ext cx="7772400" cy="30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tools for backing-up the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own backup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E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FGBCKUP (Config Back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U (Emergency Recovery Ut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feguarding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backs up the Registry after every b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DAT saved in SYSTEM.DA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.DAT saved in USER.DA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recov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 into safe-real-mode (F8 followed by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ete *.DAT, rename *.DA0 (after making them accessible with ‘attr -s -r -h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feguarding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173016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E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 .REG files of any or all of the reg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HKLM and HKU are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ful for precision back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to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-click on .REG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boot into safe-real-mode and execut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regedit /L:&lt;SYSTEM.DAT&gt; /R:&lt;USER.DAT&gt;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c &lt;.REG fi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encounter problems restoring from real-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feguarding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34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FGB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Windows 95 CD and Windows 95 Resource 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tains up to 9 compressed back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advantage is that Windows must be able to boot to run CFGBC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feguarding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U (Emergency Backup Uti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s up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-related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sys, autoexec.bat, system.ini, system.da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ng if it cannot find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to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t into real-safe-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ERD.EXE from backup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ppendix - .INF fi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by Add New Hardware Wiz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lot like .INI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20 pre-defined section types (e.g. Version, Destination Dirs, AddRegistry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gistry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g-root-st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bk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, 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ue-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, 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, 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o am I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ing Editor, Dr. Dobb’s Jour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in Windows 95 and NT inter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ing the Windows 95 Registry,” Windows Developer’s Journal, October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gistry is Windows configuration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use the Registry as their .INI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ing-up the Registry is a good id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or more information...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n Petrusha’s excellent, “Inside the Windows 95 Registry,” O’Reilly and Associates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en Cluts, “Programming the Windows 95 User Interface,” Microsoft Press, 1995 (shipped on MSDN 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VC documentation and the Win32 SD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istory of the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gistry’s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ry t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guarding the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ndix: .INF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history of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beginning… .INI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wrong with .INI files? Lo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(linear)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twork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history of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 3.1 has a registry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REG.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able with REGEDIT.EX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as it used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Manager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g-and-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history of the Reg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’s heart is in the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compasses all sort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thing it was used for in Win 3.1 plu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 and PnP (Plug ‘n Pray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(Vx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EDIT.EXE 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gistry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gistry is like a disk d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s” == direc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s” == 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2400" y="5081760"/>
            <a:ext cx="1739880" cy="3682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7880" y="504360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60640" y="4792680"/>
            <a:ext cx="1740240" cy="3682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6480" y="475452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5495760"/>
            <a:ext cx="1739880" cy="36864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78720" y="5457960"/>
            <a:ext cx="99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9600" y="4792680"/>
            <a:ext cx="1739880" cy="3682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64720" y="4754520"/>
            <a:ext cx="99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59280" y="4989600"/>
            <a:ext cx="77436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5275440"/>
            <a:ext cx="809640" cy="404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9600" y="4976640"/>
            <a:ext cx="536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egistry’s organ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valu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_DWORD - a 4 byte integer e.g. 0x12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_SZ - a null-terminated string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“Profi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_BINARY - arbitrary length stream of bytes e.g. 00 23 07 49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Mark Russinovich</dc:creator>
  <dc:description/>
  <dc:language>en-US</dc:language>
  <cp:lastModifiedBy>Mark E Russinovich</cp:lastModifiedBy>
  <dcterms:modified xsi:type="dcterms:W3CDTF">2000-07-24T13:18:23Z</dcterms:modified>
  <cp:revision>21</cp:revision>
  <dc:subject/>
  <dc:title>General</dc:title>
</cp:coreProperties>
</file>